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drawing2.xml" ContentType="application/vnd.ms-office.drawingml.diagramDrawing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rawing4.xml" ContentType="application/vnd.ms-office.drawingml.diagramDrawing+xml"/>
  <Override PartName="/ppt/diagrams/quickStyle1.xml" ContentType="application/vnd.openxmlformats-officedocument.drawingml.diagramStyle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data4.xml" ContentType="application/vnd.openxmlformats-officedocument.drawingml.diagramData+xml"/>
  <Override PartName="/ppt/diagrams/drawing1.xml" ContentType="application/vnd.ms-office.drawingml.diagramDrawing+xml"/>
  <Override PartName="/ppt/diagrams/drawing3.xml" ContentType="application/vnd.ms-office.drawingml.diagramDrawing+xml"/>
  <Override PartName="/ppt/diagrams/quickStyle4.xml" ContentType="application/vnd.openxmlformats-officedocument.drawingml.diagramStyle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data2.xml" ContentType="application/vnd.openxmlformats-officedocument.drawingml.diagramData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3_2">
  <dgm:title val=""/>
  <dgm:desc val=""/>
  <dgm:catLst>
    <dgm:cat type="accent3" pri="112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lnNode1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3">
        <a:alpha val="90000"/>
        <a:tint val="40000"/>
      </a:schemeClr>
    </dgm:fillClrLst>
    <dgm:linClrLst meth="repeat">
      <a:schemeClr val="accent3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3">
        <a:alpha val="90000"/>
        <a:tint val="40000"/>
      </a:schemeClr>
    </dgm:fillClrLst>
    <dgm:linClrLst meth="repeat">
      <a:schemeClr val="accent3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3">
        <a:alpha val="90000"/>
        <a:tint val="40000"/>
      </a:schemeClr>
    </dgm:fillClrLst>
    <dgm:linClrLst meth="repeat">
      <a:schemeClr val="accent3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8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3_3">
  <dgm:title val=""/>
  <dgm:desc val=""/>
  <dgm:catLst>
    <dgm:cat type="accent3" pri="11300"/>
  </dgm:catLst>
  <dgm:styleLbl name="node0">
    <dgm:fillClrLst meth="repeat">
      <a:schemeClr val="accent3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3">
        <a:shade val="80000"/>
      </a:schemeClr>
      <a:schemeClr val="accent3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3">
        <a:shade val="80000"/>
      </a:schemeClr>
      <a:schemeClr val="accent3">
        <a:tint val="70000"/>
      </a:schemeClr>
    </dgm:fillClrLst>
    <dgm:linClrLst>
      <a:schemeClr val="accent3">
        <a:shade val="80000"/>
      </a:schemeClr>
      <a:schemeClr val="accent3">
        <a:tint val="70000"/>
      </a:schemeClr>
    </dgm:linClrLst>
    <dgm:effectClrLst/>
    <dgm:txLinClrLst/>
    <dgm:txFillClrLst/>
    <dgm:txEffectClrLst/>
  </dgm:styleLbl>
  <dgm:styleLbl name="lnNode1">
    <dgm:fillClrLst>
      <a:schemeClr val="accent3">
        <a:shade val="80000"/>
      </a:schemeClr>
      <a:schemeClr val="accent3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3">
        <a:shade val="80000"/>
        <a:alpha val="50000"/>
      </a:schemeClr>
      <a:schemeClr val="accent3">
        <a:tint val="7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>
        <a:tint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3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3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3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3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3">
        <a:shade val="90000"/>
      </a:schemeClr>
      <a:schemeClr val="accent3">
        <a:tint val="70000"/>
      </a:schemeClr>
    </dgm:fillClrLst>
    <dgm:linClrLst>
      <a:schemeClr val="accent3">
        <a:shade val="90000"/>
      </a:schemeClr>
      <a:schemeClr val="accent3">
        <a:tint val="70000"/>
      </a:schemeClr>
    </dgm:linClrLst>
    <dgm:effectClrLst/>
    <dgm:txLinClrLst/>
    <dgm:txFillClrLst/>
    <dgm:txEffectClrLst/>
  </dgm:styleLbl>
  <dgm:styleLbl name="fgSibTrans2D1">
    <dgm:fillClrLst>
      <a:schemeClr val="accent3">
        <a:shade val="90000"/>
      </a:schemeClr>
      <a:schemeClr val="accent3">
        <a:tint val="70000"/>
      </a:schemeClr>
    </dgm:fillClrLst>
    <dgm:linClrLst>
      <a:schemeClr val="accent3">
        <a:shade val="90000"/>
      </a:schemeClr>
      <a:schemeClr val="accent3">
        <a:tint val="70000"/>
      </a:schemeClr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3">
        <a:shade val="90000"/>
      </a:schemeClr>
      <a:schemeClr val="accent3">
        <a:tint val="70000"/>
      </a:schemeClr>
    </dgm:fillClrLst>
    <dgm:linClrLst>
      <a:schemeClr val="accent3">
        <a:shade val="90000"/>
      </a:schemeClr>
      <a:schemeClr val="accent3">
        <a:tint val="70000"/>
      </a:schemeClr>
    </dgm:linClrLst>
    <dgm:effectClrLst/>
    <dgm:txLinClrLst/>
    <dgm:txFillClrLst meth="repeat">
      <a:schemeClr val="lt1"/>
    </dgm:txFillClrLst>
    <dgm:txEffectClrLst/>
  </dgm:styleLbl>
  <dgm:styleLbl name="sibTrans1D1">
    <dgm:fillClrLst>
      <a:schemeClr val="accent3">
        <a:shade val="90000"/>
      </a:schemeClr>
      <a:schemeClr val="accent3">
        <a:tint val="70000"/>
      </a:schemeClr>
    </dgm:fillClrLst>
    <dgm:linClrLst>
      <a:schemeClr val="accent3">
        <a:shade val="90000"/>
      </a:schemeClr>
      <a:schemeClr val="accent3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3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3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3">
        <a:tint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>
        <a:tint val="90000"/>
      </a:schemeClr>
    </dgm:fillClrLst>
    <dgm:linClrLst meth="repeat">
      <a:schemeClr val="accent3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3">
        <a:tint val="70000"/>
      </a:schemeClr>
    </dgm:fillClrLst>
    <dgm:linClrLst meth="repeat">
      <a:schemeClr val="accent3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3">
        <a:tint val="50000"/>
      </a:schemeClr>
    </dgm:fillClrLst>
    <dgm:linClrLst meth="repeat">
      <a:schemeClr val="accent3">
        <a:tint val="50000"/>
      </a:schemeClr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>
        <a:shade val="8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9000"/>
      </a:schemeClr>
    </dgm:fillClrLst>
    <dgm:linClrLst meth="repeat">
      <a:schemeClr val="accent3">
        <a:tint val="99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>
        <a:tint val="80000"/>
      </a:schemeClr>
    </dgm:fillClrLst>
    <dgm:linClrLst meth="repeat">
      <a:schemeClr val="accent3">
        <a:tint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>
        <a:tint val="70000"/>
      </a:schemeClr>
    </dgm:fillClrLst>
    <dgm:linClrLst meth="repeat">
      <a:schemeClr val="accent3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3">
        <a:shade val="80000"/>
      </a:schemeClr>
      <a:schemeClr val="accent3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3">
        <a:shade val="80000"/>
      </a:schemeClr>
      <a:schemeClr val="accent3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3">
        <a:shade val="80000"/>
      </a:schemeClr>
      <a:schemeClr val="accent3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3">
        <a:shade val="80000"/>
      </a:schemeClr>
      <a:schemeClr val="accent3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3">
        <a:shade val="80000"/>
      </a:schemeClr>
      <a:schemeClr val="accent3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3">
        <a:alpha val="90000"/>
        <a:tint val="40000"/>
      </a:schemeClr>
    </dgm:fillClrLst>
    <dgm:linClrLst meth="repeat">
      <a:schemeClr val="accent3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3">
        <a:alpha val="90000"/>
        <a:tint val="40000"/>
      </a:schemeClr>
    </dgm:fillClrLst>
    <dgm:linClrLst meth="repeat">
      <a:schemeClr val="accent3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3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3">
        <a:tint val="99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3">
        <a:tint val="8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3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EC1FF47E-2BB6-4728-953B-2F6E51D445CF}" type="doc">
      <dgm:prSet loTypeId="urn:microsoft.com/office/officeart/2005/8/layout/orgChart1" loCatId="hierarchy" qsTypeId="urn:microsoft.com/office/officeart/2005/8/quickstyle/simple5" qsCatId="simple" csTypeId="urn:microsoft.com/office/officeart/2005/8/colors/accent3_2" csCatId="accent3" phldr="1"/>
      <dgm:spPr/>
      <dgm:t>
        <a:bodyPr/>
        <a:lstStyle/>
        <a:p>
          <a:endParaRPr lang="ru-RU"/>
        </a:p>
      </dgm:t>
    </dgm:pt>
    <dgm:pt modelId="{21806C64-1E7D-4B91-AB24-3949C0BCB183}">
      <dgm:prSet phldrT="[Текст]"/>
      <dgm:spPr/>
      <dgm:t>
        <a:bodyPr/>
        <a:lstStyle/>
        <a:p>
          <a:r>
            <a:rPr lang="ru-RU" b="1" dirty="0">
              <a:solidFill>
                <a:schemeClr val="tx1"/>
              </a:solidFill>
              <a:effectLst>
                <a:glow rad="139700">
                  <a:schemeClr val="accent3">
                    <a:satMod val="175000"/>
                    <a:alpha val="40000"/>
                  </a:schemeClr>
                </a:glow>
              </a:effectLst>
              <a:latin typeface="Times New Roman" panose="02020603050405020304" pitchFamily="18" charset="0"/>
              <a:cs typeface="Times New Roman" panose="02020603050405020304" pitchFamily="18" charset="0"/>
            </a:rPr>
            <a:t>Формирование пространственных </a:t>
          </a:r>
        </a:p>
        <a:p>
          <a:r>
            <a:rPr lang="ru-RU" b="1" dirty="0">
              <a:solidFill>
                <a:schemeClr val="tx1"/>
              </a:solidFill>
              <a:effectLst>
                <a:glow rad="139700">
                  <a:schemeClr val="accent3">
                    <a:satMod val="175000"/>
                    <a:alpha val="40000"/>
                  </a:schemeClr>
                </a:glow>
              </a:effectLst>
              <a:latin typeface="Times New Roman" panose="02020603050405020304" pitchFamily="18" charset="0"/>
              <a:cs typeface="Times New Roman" panose="02020603050405020304" pitchFamily="18" charset="0"/>
            </a:rPr>
            <a:t>представлений</a:t>
          </a:r>
        </a:p>
      </dgm:t>
    </dgm:pt>
    <dgm:pt modelId="{25A30752-1912-47FA-B24B-9D47B2DCF7DE}" type="parTrans" cxnId="{53B8E5EC-0B87-4DD6-8706-52068B0619F3}">
      <dgm:prSet/>
      <dgm:spPr/>
      <dgm:t>
        <a:bodyPr/>
        <a:lstStyle/>
        <a:p>
          <a:endParaRPr lang="ru-RU">
            <a:solidFill>
              <a:schemeClr val="accent6">
                <a:lumMod val="50000"/>
              </a:schemeClr>
            </a:solidFill>
            <a:latin typeface="Monotype Corsiva" pitchFamily="66" charset="0"/>
          </a:endParaRPr>
        </a:p>
      </dgm:t>
    </dgm:pt>
    <dgm:pt modelId="{B5E412EB-F38F-41F2-871E-FEE951425754}" type="sibTrans" cxnId="{53B8E5EC-0B87-4DD6-8706-52068B0619F3}">
      <dgm:prSet/>
      <dgm:spPr/>
      <dgm:t>
        <a:bodyPr/>
        <a:lstStyle/>
        <a:p>
          <a:endParaRPr lang="ru-RU">
            <a:solidFill>
              <a:schemeClr val="accent6">
                <a:lumMod val="50000"/>
              </a:schemeClr>
            </a:solidFill>
            <a:latin typeface="Monotype Corsiva" pitchFamily="66" charset="0"/>
          </a:endParaRPr>
        </a:p>
      </dgm:t>
    </dgm:pt>
    <dgm:pt modelId="{63A1E308-7727-4537-8D14-5E5824D33A53}">
      <dgm:prSet phldrT="[Текст]" custT="1"/>
      <dgm:spPr/>
      <dgm:t>
        <a:bodyPr/>
        <a:lstStyle/>
        <a:p>
          <a:r>
            <a:rPr lang="ru-RU" sz="2400" b="1" dirty="0">
              <a:solidFill>
                <a:schemeClr val="tx1"/>
              </a:solidFill>
              <a:effectLst>
                <a:glow rad="139700">
                  <a:schemeClr val="accent3">
                    <a:satMod val="175000"/>
                    <a:alpha val="40000"/>
                  </a:schemeClr>
                </a:glow>
              </a:effectLst>
              <a:latin typeface="Times New Roman" panose="02020603050405020304" pitchFamily="18" charset="0"/>
              <a:cs typeface="Times New Roman" panose="02020603050405020304" pitchFamily="18" charset="0"/>
            </a:rPr>
            <a:t>Трехмерное пространство               (основные пространственные направления)</a:t>
          </a:r>
        </a:p>
      </dgm:t>
    </dgm:pt>
    <dgm:pt modelId="{D645084A-7CD8-4B8B-95FF-1F4A8BE7B255}" type="parTrans" cxnId="{00E68081-7F52-4C2A-878E-C25436CA1BFD}">
      <dgm:prSet/>
      <dgm:spPr/>
      <dgm:t>
        <a:bodyPr/>
        <a:lstStyle/>
        <a:p>
          <a:endParaRPr lang="ru-RU">
            <a:solidFill>
              <a:schemeClr val="accent6">
                <a:lumMod val="50000"/>
              </a:schemeClr>
            </a:solidFill>
            <a:latin typeface="Monotype Corsiva" pitchFamily="66" charset="0"/>
          </a:endParaRPr>
        </a:p>
      </dgm:t>
    </dgm:pt>
    <dgm:pt modelId="{A28C8148-D8EB-4FC2-8193-D45772B5421F}" type="sibTrans" cxnId="{00E68081-7F52-4C2A-878E-C25436CA1BFD}">
      <dgm:prSet/>
      <dgm:spPr/>
      <dgm:t>
        <a:bodyPr/>
        <a:lstStyle/>
        <a:p>
          <a:endParaRPr lang="ru-RU">
            <a:solidFill>
              <a:schemeClr val="accent6">
                <a:lumMod val="50000"/>
              </a:schemeClr>
            </a:solidFill>
            <a:latin typeface="Monotype Corsiva" pitchFamily="66" charset="0"/>
          </a:endParaRPr>
        </a:p>
      </dgm:t>
    </dgm:pt>
    <dgm:pt modelId="{EDAFCCC0-11C6-46EE-B1A1-01BF4F7E7993}">
      <dgm:prSet phldrT="[Текст]" custT="1"/>
      <dgm:spPr/>
      <dgm:t>
        <a:bodyPr/>
        <a:lstStyle/>
        <a:p>
          <a:r>
            <a:rPr lang="ru-RU" sz="2400" b="1" dirty="0">
              <a:solidFill>
                <a:schemeClr val="tx1"/>
              </a:solidFill>
              <a:effectLst>
                <a:glow rad="139700">
                  <a:schemeClr val="accent3">
                    <a:satMod val="175000"/>
                    <a:alpha val="40000"/>
                  </a:schemeClr>
                </a:glow>
              </a:effectLst>
              <a:latin typeface="Times New Roman" panose="02020603050405020304" pitchFamily="18" charset="0"/>
              <a:cs typeface="Times New Roman" panose="02020603050405020304" pitchFamily="18" charset="0"/>
            </a:rPr>
            <a:t>Двухмерное пространство                               (на листе бумаг</a:t>
          </a:r>
          <a:r>
            <a:rPr lang="ru-RU" sz="2400" b="1" dirty="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и)</a:t>
          </a:r>
        </a:p>
      </dgm:t>
    </dgm:pt>
    <dgm:pt modelId="{8136BC16-C3F2-4E4C-90F1-67AB119874B1}" type="parTrans" cxnId="{2B4B493B-541B-44E6-AEA8-821E52C81AFE}">
      <dgm:prSet/>
      <dgm:spPr/>
      <dgm:t>
        <a:bodyPr/>
        <a:lstStyle/>
        <a:p>
          <a:endParaRPr lang="ru-RU">
            <a:solidFill>
              <a:schemeClr val="accent6">
                <a:lumMod val="50000"/>
              </a:schemeClr>
            </a:solidFill>
            <a:latin typeface="Monotype Corsiva" pitchFamily="66" charset="0"/>
          </a:endParaRPr>
        </a:p>
      </dgm:t>
    </dgm:pt>
    <dgm:pt modelId="{A65548D5-4ABE-4B12-BB8D-77299A9D840C}" type="sibTrans" cxnId="{2B4B493B-541B-44E6-AEA8-821E52C81AFE}">
      <dgm:prSet/>
      <dgm:spPr/>
      <dgm:t>
        <a:bodyPr/>
        <a:lstStyle/>
        <a:p>
          <a:endParaRPr lang="ru-RU">
            <a:solidFill>
              <a:schemeClr val="accent6">
                <a:lumMod val="50000"/>
              </a:schemeClr>
            </a:solidFill>
            <a:latin typeface="Monotype Corsiva" pitchFamily="66" charset="0"/>
          </a:endParaRPr>
        </a:p>
      </dgm:t>
    </dgm:pt>
    <dgm:pt modelId="{CD99BA5B-1055-40F2-8130-A592CBB82ECD}" type="pres">
      <dgm:prSet presAssocID="{EC1FF47E-2BB6-4728-953B-2F6E51D445CF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</dgm:pt>
    <dgm:pt modelId="{BF60E59D-4EEA-4AD1-9C17-A479EA646EE3}" type="pres">
      <dgm:prSet presAssocID="{21806C64-1E7D-4B91-AB24-3949C0BCB183}" presName="hierRoot1" presStyleCnt="0">
        <dgm:presLayoutVars>
          <dgm:hierBranch val="init"/>
        </dgm:presLayoutVars>
      </dgm:prSet>
      <dgm:spPr/>
    </dgm:pt>
    <dgm:pt modelId="{19470791-DF86-4353-8BD6-5424CE74FA7B}" type="pres">
      <dgm:prSet presAssocID="{21806C64-1E7D-4B91-AB24-3949C0BCB183}" presName="rootComposite1" presStyleCnt="0"/>
      <dgm:spPr/>
    </dgm:pt>
    <dgm:pt modelId="{326A694F-3E22-479F-B04C-4E69648DA780}" type="pres">
      <dgm:prSet presAssocID="{21806C64-1E7D-4B91-AB24-3949C0BCB183}" presName="rootText1" presStyleLbl="node0" presStyleIdx="0" presStyleCnt="1" custScaleX="169083" custLinFactNeighborX="0" custLinFactNeighborY="227">
        <dgm:presLayoutVars>
          <dgm:chPref val="3"/>
        </dgm:presLayoutVars>
      </dgm:prSet>
      <dgm:spPr/>
    </dgm:pt>
    <dgm:pt modelId="{F64F59C9-F80F-439F-BECE-A63E7B8D3E65}" type="pres">
      <dgm:prSet presAssocID="{21806C64-1E7D-4B91-AB24-3949C0BCB183}" presName="rootConnector1" presStyleLbl="node1" presStyleIdx="0" presStyleCnt="0"/>
      <dgm:spPr/>
    </dgm:pt>
    <dgm:pt modelId="{AE27360E-ED8C-4CDC-BB08-C10AD53BEF09}" type="pres">
      <dgm:prSet presAssocID="{21806C64-1E7D-4B91-AB24-3949C0BCB183}" presName="hierChild2" presStyleCnt="0"/>
      <dgm:spPr/>
    </dgm:pt>
    <dgm:pt modelId="{6FE1F234-12BA-4FB3-A7AB-AA751ED768B8}" type="pres">
      <dgm:prSet presAssocID="{D645084A-7CD8-4B8B-95FF-1F4A8BE7B255}" presName="Name37" presStyleLbl="parChTrans1D2" presStyleIdx="0" presStyleCnt="2"/>
      <dgm:spPr/>
    </dgm:pt>
    <dgm:pt modelId="{CF16DBDB-ED52-47FB-898C-2050B2039E17}" type="pres">
      <dgm:prSet presAssocID="{63A1E308-7727-4537-8D14-5E5824D33A53}" presName="hierRoot2" presStyleCnt="0">
        <dgm:presLayoutVars>
          <dgm:hierBranch val="init"/>
        </dgm:presLayoutVars>
      </dgm:prSet>
      <dgm:spPr/>
    </dgm:pt>
    <dgm:pt modelId="{D4144D2B-501E-4745-BFD8-4F012F3D2D8F}" type="pres">
      <dgm:prSet presAssocID="{63A1E308-7727-4537-8D14-5E5824D33A53}" presName="rootComposite" presStyleCnt="0"/>
      <dgm:spPr/>
    </dgm:pt>
    <dgm:pt modelId="{F27B20A1-DF97-4831-81CB-C77007F7971C}" type="pres">
      <dgm:prSet presAssocID="{63A1E308-7727-4537-8D14-5E5824D33A53}" presName="rootText" presStyleLbl="node2" presStyleIdx="0" presStyleCnt="2">
        <dgm:presLayoutVars>
          <dgm:chPref val="3"/>
        </dgm:presLayoutVars>
      </dgm:prSet>
      <dgm:spPr/>
    </dgm:pt>
    <dgm:pt modelId="{520CE7BA-D023-45FA-B186-B175C70E61E2}" type="pres">
      <dgm:prSet presAssocID="{63A1E308-7727-4537-8D14-5E5824D33A53}" presName="rootConnector" presStyleLbl="node2" presStyleIdx="0" presStyleCnt="2"/>
      <dgm:spPr/>
    </dgm:pt>
    <dgm:pt modelId="{3FC89FFB-7BF8-427A-A1F6-98C37125F95C}" type="pres">
      <dgm:prSet presAssocID="{63A1E308-7727-4537-8D14-5E5824D33A53}" presName="hierChild4" presStyleCnt="0"/>
      <dgm:spPr/>
    </dgm:pt>
    <dgm:pt modelId="{84496F97-B73E-455C-9FF8-46545D2B1906}" type="pres">
      <dgm:prSet presAssocID="{63A1E308-7727-4537-8D14-5E5824D33A53}" presName="hierChild5" presStyleCnt="0"/>
      <dgm:spPr/>
    </dgm:pt>
    <dgm:pt modelId="{D9F17122-078A-43AA-B7D5-1117D0230DAC}" type="pres">
      <dgm:prSet presAssocID="{8136BC16-C3F2-4E4C-90F1-67AB119874B1}" presName="Name37" presStyleLbl="parChTrans1D2" presStyleIdx="1" presStyleCnt="2"/>
      <dgm:spPr/>
    </dgm:pt>
    <dgm:pt modelId="{D1DDCF98-A1DF-4DB4-9C3A-8449EC50BB24}" type="pres">
      <dgm:prSet presAssocID="{EDAFCCC0-11C6-46EE-B1A1-01BF4F7E7993}" presName="hierRoot2" presStyleCnt="0">
        <dgm:presLayoutVars>
          <dgm:hierBranch val="init"/>
        </dgm:presLayoutVars>
      </dgm:prSet>
      <dgm:spPr/>
    </dgm:pt>
    <dgm:pt modelId="{6B685E0C-DDD5-4AB7-BDEB-BDD8458D8899}" type="pres">
      <dgm:prSet presAssocID="{EDAFCCC0-11C6-46EE-B1A1-01BF4F7E7993}" presName="rootComposite" presStyleCnt="0"/>
      <dgm:spPr/>
    </dgm:pt>
    <dgm:pt modelId="{621D6376-4988-446C-AC0E-3EAD2FDD1B78}" type="pres">
      <dgm:prSet presAssocID="{EDAFCCC0-11C6-46EE-B1A1-01BF4F7E7993}" presName="rootText" presStyleLbl="node2" presStyleIdx="1" presStyleCnt="2" custLinFactNeighborX="7486" custLinFactNeighborY="-413">
        <dgm:presLayoutVars>
          <dgm:chPref val="3"/>
        </dgm:presLayoutVars>
      </dgm:prSet>
      <dgm:spPr/>
    </dgm:pt>
    <dgm:pt modelId="{EF87CE35-EA20-4CEE-A77C-E28F4735B65A}" type="pres">
      <dgm:prSet presAssocID="{EDAFCCC0-11C6-46EE-B1A1-01BF4F7E7993}" presName="rootConnector" presStyleLbl="node2" presStyleIdx="1" presStyleCnt="2"/>
      <dgm:spPr/>
    </dgm:pt>
    <dgm:pt modelId="{22585E6C-B528-4A56-A956-A311A791EC81}" type="pres">
      <dgm:prSet presAssocID="{EDAFCCC0-11C6-46EE-B1A1-01BF4F7E7993}" presName="hierChild4" presStyleCnt="0"/>
      <dgm:spPr/>
    </dgm:pt>
    <dgm:pt modelId="{F5924E2A-1745-4245-B1EC-A810E8BAF1DA}" type="pres">
      <dgm:prSet presAssocID="{EDAFCCC0-11C6-46EE-B1A1-01BF4F7E7993}" presName="hierChild5" presStyleCnt="0"/>
      <dgm:spPr/>
    </dgm:pt>
    <dgm:pt modelId="{F4620512-45F0-465A-8A7F-368B9FDF9FC0}" type="pres">
      <dgm:prSet presAssocID="{21806C64-1E7D-4B91-AB24-3949C0BCB183}" presName="hierChild3" presStyleCnt="0"/>
      <dgm:spPr/>
    </dgm:pt>
  </dgm:ptLst>
  <dgm:cxnLst>
    <dgm:cxn modelId="{14CF2B12-E87B-4F74-995B-FDF6DF519F98}" type="presOf" srcId="{21806C64-1E7D-4B91-AB24-3949C0BCB183}" destId="{F64F59C9-F80F-439F-BECE-A63E7B8D3E65}" srcOrd="1" destOrd="0" presId="urn:microsoft.com/office/officeart/2005/8/layout/orgChart1"/>
    <dgm:cxn modelId="{15B25F1D-360F-44BE-B2BB-DD08BDD7167D}" type="presOf" srcId="{8136BC16-C3F2-4E4C-90F1-67AB119874B1}" destId="{D9F17122-078A-43AA-B7D5-1117D0230DAC}" srcOrd="0" destOrd="0" presId="urn:microsoft.com/office/officeart/2005/8/layout/orgChart1"/>
    <dgm:cxn modelId="{7342E61E-2774-4AB9-8F8E-ED422DDEBBBF}" type="presOf" srcId="{D645084A-7CD8-4B8B-95FF-1F4A8BE7B255}" destId="{6FE1F234-12BA-4FB3-A7AB-AA751ED768B8}" srcOrd="0" destOrd="0" presId="urn:microsoft.com/office/officeart/2005/8/layout/orgChart1"/>
    <dgm:cxn modelId="{2B4B493B-541B-44E6-AEA8-821E52C81AFE}" srcId="{21806C64-1E7D-4B91-AB24-3949C0BCB183}" destId="{EDAFCCC0-11C6-46EE-B1A1-01BF4F7E7993}" srcOrd="1" destOrd="0" parTransId="{8136BC16-C3F2-4E4C-90F1-67AB119874B1}" sibTransId="{A65548D5-4ABE-4B12-BB8D-77299A9D840C}"/>
    <dgm:cxn modelId="{D488B23C-57D8-4886-BAFC-3575CDB3C1EB}" type="presOf" srcId="{21806C64-1E7D-4B91-AB24-3949C0BCB183}" destId="{326A694F-3E22-479F-B04C-4E69648DA780}" srcOrd="0" destOrd="0" presId="urn:microsoft.com/office/officeart/2005/8/layout/orgChart1"/>
    <dgm:cxn modelId="{E9E9FE3F-E7A2-4337-B4A3-E54B1E2064CD}" type="presOf" srcId="{EC1FF47E-2BB6-4728-953B-2F6E51D445CF}" destId="{CD99BA5B-1055-40F2-8130-A592CBB82ECD}" srcOrd="0" destOrd="0" presId="urn:microsoft.com/office/officeart/2005/8/layout/orgChart1"/>
    <dgm:cxn modelId="{8C383D64-7405-43FF-8CE5-E6A1381977F3}" type="presOf" srcId="{EDAFCCC0-11C6-46EE-B1A1-01BF4F7E7993}" destId="{EF87CE35-EA20-4CEE-A77C-E28F4735B65A}" srcOrd="1" destOrd="0" presId="urn:microsoft.com/office/officeart/2005/8/layout/orgChart1"/>
    <dgm:cxn modelId="{2A54054E-82AA-4AB7-8FF6-1AE0B4E28B84}" type="presOf" srcId="{63A1E308-7727-4537-8D14-5E5824D33A53}" destId="{520CE7BA-D023-45FA-B186-B175C70E61E2}" srcOrd="1" destOrd="0" presId="urn:microsoft.com/office/officeart/2005/8/layout/orgChart1"/>
    <dgm:cxn modelId="{00E68081-7F52-4C2A-878E-C25436CA1BFD}" srcId="{21806C64-1E7D-4B91-AB24-3949C0BCB183}" destId="{63A1E308-7727-4537-8D14-5E5824D33A53}" srcOrd="0" destOrd="0" parTransId="{D645084A-7CD8-4B8B-95FF-1F4A8BE7B255}" sibTransId="{A28C8148-D8EB-4FC2-8193-D45772B5421F}"/>
    <dgm:cxn modelId="{F7162C89-1C7E-4357-87E7-71E34054B648}" type="presOf" srcId="{63A1E308-7727-4537-8D14-5E5824D33A53}" destId="{F27B20A1-DF97-4831-81CB-C77007F7971C}" srcOrd="0" destOrd="0" presId="urn:microsoft.com/office/officeart/2005/8/layout/orgChart1"/>
    <dgm:cxn modelId="{8162DCB2-904D-44A7-B342-DD97FD34DBC5}" type="presOf" srcId="{EDAFCCC0-11C6-46EE-B1A1-01BF4F7E7993}" destId="{621D6376-4988-446C-AC0E-3EAD2FDD1B78}" srcOrd="0" destOrd="0" presId="urn:microsoft.com/office/officeart/2005/8/layout/orgChart1"/>
    <dgm:cxn modelId="{53B8E5EC-0B87-4DD6-8706-52068B0619F3}" srcId="{EC1FF47E-2BB6-4728-953B-2F6E51D445CF}" destId="{21806C64-1E7D-4B91-AB24-3949C0BCB183}" srcOrd="0" destOrd="0" parTransId="{25A30752-1912-47FA-B24B-9D47B2DCF7DE}" sibTransId="{B5E412EB-F38F-41F2-871E-FEE951425754}"/>
    <dgm:cxn modelId="{C6149445-AD46-496E-80E0-A7FEA0A27E19}" type="presParOf" srcId="{CD99BA5B-1055-40F2-8130-A592CBB82ECD}" destId="{BF60E59D-4EEA-4AD1-9C17-A479EA646EE3}" srcOrd="0" destOrd="0" presId="urn:microsoft.com/office/officeart/2005/8/layout/orgChart1"/>
    <dgm:cxn modelId="{A23802A2-B19A-471F-9D31-19BD46F4B19F}" type="presParOf" srcId="{BF60E59D-4EEA-4AD1-9C17-A479EA646EE3}" destId="{19470791-DF86-4353-8BD6-5424CE74FA7B}" srcOrd="0" destOrd="0" presId="urn:microsoft.com/office/officeart/2005/8/layout/orgChart1"/>
    <dgm:cxn modelId="{C74B0925-E1A1-438F-9618-7E2D12784B41}" type="presParOf" srcId="{19470791-DF86-4353-8BD6-5424CE74FA7B}" destId="{326A694F-3E22-479F-B04C-4E69648DA780}" srcOrd="0" destOrd="0" presId="urn:microsoft.com/office/officeart/2005/8/layout/orgChart1"/>
    <dgm:cxn modelId="{503BA269-1F55-4983-90C7-905C79CF87BF}" type="presParOf" srcId="{19470791-DF86-4353-8BD6-5424CE74FA7B}" destId="{F64F59C9-F80F-439F-BECE-A63E7B8D3E65}" srcOrd="1" destOrd="0" presId="urn:microsoft.com/office/officeart/2005/8/layout/orgChart1"/>
    <dgm:cxn modelId="{389544DB-CCA6-45A3-B12F-6B1B04D8CDE7}" type="presParOf" srcId="{BF60E59D-4EEA-4AD1-9C17-A479EA646EE3}" destId="{AE27360E-ED8C-4CDC-BB08-C10AD53BEF09}" srcOrd="1" destOrd="0" presId="urn:microsoft.com/office/officeart/2005/8/layout/orgChart1"/>
    <dgm:cxn modelId="{F1A3201A-A99D-460F-86F0-9864D44D6337}" type="presParOf" srcId="{AE27360E-ED8C-4CDC-BB08-C10AD53BEF09}" destId="{6FE1F234-12BA-4FB3-A7AB-AA751ED768B8}" srcOrd="0" destOrd="0" presId="urn:microsoft.com/office/officeart/2005/8/layout/orgChart1"/>
    <dgm:cxn modelId="{5AF8D1E3-15CD-40E9-8FE8-9AD1C814408D}" type="presParOf" srcId="{AE27360E-ED8C-4CDC-BB08-C10AD53BEF09}" destId="{CF16DBDB-ED52-47FB-898C-2050B2039E17}" srcOrd="1" destOrd="0" presId="urn:microsoft.com/office/officeart/2005/8/layout/orgChart1"/>
    <dgm:cxn modelId="{C27DB0B7-A5A1-4D3E-BDC9-F2FCCFD980B1}" type="presParOf" srcId="{CF16DBDB-ED52-47FB-898C-2050B2039E17}" destId="{D4144D2B-501E-4745-BFD8-4F012F3D2D8F}" srcOrd="0" destOrd="0" presId="urn:microsoft.com/office/officeart/2005/8/layout/orgChart1"/>
    <dgm:cxn modelId="{363A602F-DAC9-41A8-AF83-54D238276B44}" type="presParOf" srcId="{D4144D2B-501E-4745-BFD8-4F012F3D2D8F}" destId="{F27B20A1-DF97-4831-81CB-C77007F7971C}" srcOrd="0" destOrd="0" presId="urn:microsoft.com/office/officeart/2005/8/layout/orgChart1"/>
    <dgm:cxn modelId="{10E0B1AA-B037-4DF0-83D9-FC5A725F0450}" type="presParOf" srcId="{D4144D2B-501E-4745-BFD8-4F012F3D2D8F}" destId="{520CE7BA-D023-45FA-B186-B175C70E61E2}" srcOrd="1" destOrd="0" presId="urn:microsoft.com/office/officeart/2005/8/layout/orgChart1"/>
    <dgm:cxn modelId="{45C0EFBF-90B6-4CF7-A32D-19298AFF1788}" type="presParOf" srcId="{CF16DBDB-ED52-47FB-898C-2050B2039E17}" destId="{3FC89FFB-7BF8-427A-A1F6-98C37125F95C}" srcOrd="1" destOrd="0" presId="urn:microsoft.com/office/officeart/2005/8/layout/orgChart1"/>
    <dgm:cxn modelId="{6AA3D4D4-30C0-44FA-A8C8-EBFEBA76800F}" type="presParOf" srcId="{CF16DBDB-ED52-47FB-898C-2050B2039E17}" destId="{84496F97-B73E-455C-9FF8-46545D2B1906}" srcOrd="2" destOrd="0" presId="urn:microsoft.com/office/officeart/2005/8/layout/orgChart1"/>
    <dgm:cxn modelId="{9F5BC241-DE4B-4F07-B99A-26D7855727DF}" type="presParOf" srcId="{AE27360E-ED8C-4CDC-BB08-C10AD53BEF09}" destId="{D9F17122-078A-43AA-B7D5-1117D0230DAC}" srcOrd="2" destOrd="0" presId="urn:microsoft.com/office/officeart/2005/8/layout/orgChart1"/>
    <dgm:cxn modelId="{226F4AF7-9719-44A8-9F4A-CC6E912D13DB}" type="presParOf" srcId="{AE27360E-ED8C-4CDC-BB08-C10AD53BEF09}" destId="{D1DDCF98-A1DF-4DB4-9C3A-8449EC50BB24}" srcOrd="3" destOrd="0" presId="urn:microsoft.com/office/officeart/2005/8/layout/orgChart1"/>
    <dgm:cxn modelId="{F5FC9CD7-ACA3-4751-BAF6-52130E5E1B03}" type="presParOf" srcId="{D1DDCF98-A1DF-4DB4-9C3A-8449EC50BB24}" destId="{6B685E0C-DDD5-4AB7-BDEB-BDD8458D8899}" srcOrd="0" destOrd="0" presId="urn:microsoft.com/office/officeart/2005/8/layout/orgChart1"/>
    <dgm:cxn modelId="{059129BC-165A-4418-8C6A-4C427D0538D7}" type="presParOf" srcId="{6B685E0C-DDD5-4AB7-BDEB-BDD8458D8899}" destId="{621D6376-4988-446C-AC0E-3EAD2FDD1B78}" srcOrd="0" destOrd="0" presId="urn:microsoft.com/office/officeart/2005/8/layout/orgChart1"/>
    <dgm:cxn modelId="{9527AC4B-74B1-40C9-B484-B384B25E3531}" type="presParOf" srcId="{6B685E0C-DDD5-4AB7-BDEB-BDD8458D8899}" destId="{EF87CE35-EA20-4CEE-A77C-E28F4735B65A}" srcOrd="1" destOrd="0" presId="urn:microsoft.com/office/officeart/2005/8/layout/orgChart1"/>
    <dgm:cxn modelId="{344B0133-2B13-4328-B42B-C66FC587CC2A}" type="presParOf" srcId="{D1DDCF98-A1DF-4DB4-9C3A-8449EC50BB24}" destId="{22585E6C-B528-4A56-A956-A311A791EC81}" srcOrd="1" destOrd="0" presId="urn:microsoft.com/office/officeart/2005/8/layout/orgChart1"/>
    <dgm:cxn modelId="{05C49E39-08EE-483A-B4B6-C9F712693523}" type="presParOf" srcId="{D1DDCF98-A1DF-4DB4-9C3A-8449EC50BB24}" destId="{F5924E2A-1745-4245-B1EC-A810E8BAF1DA}" srcOrd="2" destOrd="0" presId="urn:microsoft.com/office/officeart/2005/8/layout/orgChart1"/>
    <dgm:cxn modelId="{51A85DB2-4B69-4B31-858C-19AC4F87729E}" type="presParOf" srcId="{BF60E59D-4EEA-4AD1-9C17-A479EA646EE3}" destId="{F4620512-45F0-465A-8A7F-368B9FDF9FC0}" srcOrd="2" destOrd="0" presId="urn:microsoft.com/office/officeart/2005/8/layout/orgChart1"/>
  </dgm:cxnLst>
  <dgm:bg>
    <a:effectLst>
      <a:glow rad="63500">
        <a:schemeClr val="accent3">
          <a:satMod val="175000"/>
          <a:alpha val="40000"/>
        </a:schemeClr>
      </a:glow>
    </a:effectLst>
  </dgm:bg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0DCB4939-9805-4E8D-8352-132C56E9C2EF}" type="doc">
      <dgm:prSet loTypeId="urn:microsoft.com/office/officeart/2005/8/layout/hierarchy6" loCatId="hierarchy" qsTypeId="urn:microsoft.com/office/officeart/2005/8/quickstyle/simple5" qsCatId="simple" csTypeId="urn:microsoft.com/office/officeart/2005/8/colors/accent3_3" csCatId="accent3" phldr="1"/>
      <dgm:spPr/>
      <dgm:t>
        <a:bodyPr/>
        <a:lstStyle/>
        <a:p>
          <a:endParaRPr lang="ru-RU"/>
        </a:p>
      </dgm:t>
    </dgm:pt>
    <dgm:pt modelId="{C6D2F394-5EE6-4519-89A1-6E4814FB3570}">
      <dgm:prSet phldrT="[Текст]" custT="1"/>
      <dgm:spPr/>
      <dgm:t>
        <a:bodyPr/>
        <a:lstStyle/>
        <a:p>
          <a:r>
            <a:rPr lang="ru-RU" sz="2400" b="1" i="0" dirty="0">
              <a:solidFill>
                <a:schemeClr val="tx1"/>
              </a:solidFill>
              <a:effectLst>
                <a:glow rad="228600">
                  <a:schemeClr val="accent3">
                    <a:satMod val="175000"/>
                    <a:alpha val="40000"/>
                  </a:schemeClr>
                </a:glow>
              </a:effectLst>
              <a:latin typeface="Times New Roman" panose="02020603050405020304" pitchFamily="18" charset="0"/>
              <a:cs typeface="Times New Roman" panose="02020603050405020304" pitchFamily="18" charset="0"/>
            </a:rPr>
            <a:t>Анализаторы , участвующие в формировании пространственных представлений                                   у дошкольников</a:t>
          </a:r>
        </a:p>
      </dgm:t>
    </dgm:pt>
    <dgm:pt modelId="{0CAA281B-9B3E-4858-85B7-D9F0BDB3ECC7}" type="parTrans" cxnId="{0A4D4C5B-5EAD-46C5-AA4E-9A34A1B25658}">
      <dgm:prSet/>
      <dgm:spPr/>
      <dgm:t>
        <a:bodyPr/>
        <a:lstStyle/>
        <a:p>
          <a:endParaRPr lang="ru-RU" sz="1800" b="1" i="1">
            <a:solidFill>
              <a:schemeClr val="accent6">
                <a:lumMod val="50000"/>
              </a:schemeClr>
            </a:solidFill>
            <a:latin typeface="Monotype Corsiva" pitchFamily="66" charset="0"/>
          </a:endParaRPr>
        </a:p>
      </dgm:t>
    </dgm:pt>
    <dgm:pt modelId="{0B99EB05-DA01-4948-85A2-4B52F361EFB8}" type="sibTrans" cxnId="{0A4D4C5B-5EAD-46C5-AA4E-9A34A1B25658}">
      <dgm:prSet/>
      <dgm:spPr/>
      <dgm:t>
        <a:bodyPr/>
        <a:lstStyle/>
        <a:p>
          <a:endParaRPr lang="ru-RU" sz="1800" b="1" i="1">
            <a:solidFill>
              <a:schemeClr val="accent6">
                <a:lumMod val="50000"/>
              </a:schemeClr>
            </a:solidFill>
            <a:latin typeface="Monotype Corsiva" pitchFamily="66" charset="0"/>
          </a:endParaRPr>
        </a:p>
      </dgm:t>
    </dgm:pt>
    <dgm:pt modelId="{F4BB9AD1-FC4C-4388-9BB0-ECDF8C4BCD51}">
      <dgm:prSet phldrT="[Текст]" custT="1"/>
      <dgm:spPr/>
      <dgm:t>
        <a:bodyPr/>
        <a:lstStyle/>
        <a:p>
          <a:r>
            <a:rPr lang="ru-RU" sz="1800" b="1" i="0" dirty="0" err="1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Кинестетичес</a:t>
          </a:r>
          <a:endParaRPr lang="ru-RU" sz="1800" b="1" i="0" dirty="0">
            <a:solidFill>
              <a:schemeClr val="tx1"/>
            </a:solidFill>
            <a:latin typeface="Times New Roman" panose="02020603050405020304" pitchFamily="18" charset="0"/>
            <a:cs typeface="Times New Roman" panose="02020603050405020304" pitchFamily="18" charset="0"/>
          </a:endParaRPr>
        </a:p>
        <a:p>
          <a:r>
            <a:rPr lang="ru-RU" sz="1800" b="1" i="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кий </a:t>
          </a:r>
          <a:endParaRPr lang="ru-RU" sz="1800" b="1" i="0" dirty="0">
            <a:solidFill>
              <a:schemeClr val="tx1"/>
            </a:solidFill>
            <a:latin typeface="Times New Roman" panose="02020603050405020304" pitchFamily="18" charset="0"/>
            <a:cs typeface="Times New Roman" panose="02020603050405020304" pitchFamily="18" charset="0"/>
          </a:endParaRPr>
        </a:p>
      </dgm:t>
    </dgm:pt>
    <dgm:pt modelId="{538A8218-B3B6-4A5B-AB91-1A64BA20A483}" type="parTrans" cxnId="{F0CEBAE6-B6ED-4D7C-A7D7-27EB988A24F5}">
      <dgm:prSet/>
      <dgm:spPr/>
      <dgm:t>
        <a:bodyPr/>
        <a:lstStyle/>
        <a:p>
          <a:endParaRPr lang="ru-RU" sz="1800" b="1" i="1">
            <a:solidFill>
              <a:schemeClr val="accent6">
                <a:lumMod val="50000"/>
              </a:schemeClr>
            </a:solidFill>
            <a:latin typeface="Monotype Corsiva" pitchFamily="66" charset="0"/>
          </a:endParaRPr>
        </a:p>
      </dgm:t>
    </dgm:pt>
    <dgm:pt modelId="{B8546EA6-CE01-4598-87D0-1E86FE97BD18}" type="sibTrans" cxnId="{F0CEBAE6-B6ED-4D7C-A7D7-27EB988A24F5}">
      <dgm:prSet/>
      <dgm:spPr/>
      <dgm:t>
        <a:bodyPr/>
        <a:lstStyle/>
        <a:p>
          <a:endParaRPr lang="ru-RU" sz="1800" b="1" i="1">
            <a:solidFill>
              <a:schemeClr val="accent6">
                <a:lumMod val="50000"/>
              </a:schemeClr>
            </a:solidFill>
            <a:latin typeface="Monotype Corsiva" pitchFamily="66" charset="0"/>
          </a:endParaRPr>
        </a:p>
      </dgm:t>
    </dgm:pt>
    <dgm:pt modelId="{28DBA893-B625-4C22-A61D-0DE3312E6A0E}">
      <dgm:prSet phldrT="[Текст]" custT="1"/>
      <dgm:spPr/>
      <dgm:t>
        <a:bodyPr/>
        <a:lstStyle/>
        <a:p>
          <a:r>
            <a:rPr lang="ru-RU" sz="1800" b="1" i="0" dirty="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Зрительный (осматривание)</a:t>
          </a:r>
        </a:p>
      </dgm:t>
    </dgm:pt>
    <dgm:pt modelId="{EC2D53ED-1AEA-49DA-B1E8-395A4DEF9501}" type="parTrans" cxnId="{04BFB989-5BFE-4DE6-9B1B-BAED0D6F20B3}">
      <dgm:prSet/>
      <dgm:spPr/>
      <dgm:t>
        <a:bodyPr/>
        <a:lstStyle/>
        <a:p>
          <a:endParaRPr lang="ru-RU" sz="1800" b="1" i="1">
            <a:solidFill>
              <a:schemeClr val="accent6">
                <a:lumMod val="50000"/>
              </a:schemeClr>
            </a:solidFill>
            <a:latin typeface="Monotype Corsiva" pitchFamily="66" charset="0"/>
          </a:endParaRPr>
        </a:p>
      </dgm:t>
    </dgm:pt>
    <dgm:pt modelId="{E780FE85-19C0-4B6A-B260-18A1B86220CD}" type="sibTrans" cxnId="{04BFB989-5BFE-4DE6-9B1B-BAED0D6F20B3}">
      <dgm:prSet/>
      <dgm:spPr/>
      <dgm:t>
        <a:bodyPr/>
        <a:lstStyle/>
        <a:p>
          <a:endParaRPr lang="ru-RU" sz="1800" b="1" i="1">
            <a:solidFill>
              <a:schemeClr val="accent6">
                <a:lumMod val="50000"/>
              </a:schemeClr>
            </a:solidFill>
            <a:latin typeface="Monotype Corsiva" pitchFamily="66" charset="0"/>
          </a:endParaRPr>
        </a:p>
      </dgm:t>
    </dgm:pt>
    <dgm:pt modelId="{DD9443E1-83C9-497C-87C3-6DF5E6AEA9A9}">
      <dgm:prSet phldrT="[Текст]" custT="1"/>
      <dgm:spPr/>
      <dgm:t>
        <a:bodyPr/>
        <a:lstStyle/>
        <a:p>
          <a:r>
            <a:rPr lang="ru-RU" sz="1800" b="1" i="0" dirty="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Слуховой (работа по инструкции) </a:t>
          </a:r>
        </a:p>
      </dgm:t>
    </dgm:pt>
    <dgm:pt modelId="{004557EC-AA13-49B5-9D8C-D592FA2CA3D2}" type="parTrans" cxnId="{C47EA98A-3BE3-4F36-9D98-6E6D9816E261}">
      <dgm:prSet/>
      <dgm:spPr/>
      <dgm:t>
        <a:bodyPr/>
        <a:lstStyle/>
        <a:p>
          <a:endParaRPr lang="ru-RU" sz="1800" b="1" i="1">
            <a:solidFill>
              <a:schemeClr val="accent6">
                <a:lumMod val="50000"/>
              </a:schemeClr>
            </a:solidFill>
            <a:latin typeface="Monotype Corsiva" pitchFamily="66" charset="0"/>
          </a:endParaRPr>
        </a:p>
      </dgm:t>
    </dgm:pt>
    <dgm:pt modelId="{A29985C0-A989-45BB-8ED2-1C189ACD2753}" type="sibTrans" cxnId="{C47EA98A-3BE3-4F36-9D98-6E6D9816E261}">
      <dgm:prSet/>
      <dgm:spPr/>
      <dgm:t>
        <a:bodyPr/>
        <a:lstStyle/>
        <a:p>
          <a:endParaRPr lang="ru-RU" sz="1800" b="1" i="1">
            <a:solidFill>
              <a:schemeClr val="accent6">
                <a:lumMod val="50000"/>
              </a:schemeClr>
            </a:solidFill>
            <a:latin typeface="Monotype Corsiva" pitchFamily="66" charset="0"/>
          </a:endParaRPr>
        </a:p>
      </dgm:t>
    </dgm:pt>
    <dgm:pt modelId="{0BD9709F-A7BA-429E-B2A0-48B622BF6F2B}">
      <dgm:prSet custT="1"/>
      <dgm:spPr/>
      <dgm:t>
        <a:bodyPr/>
        <a:lstStyle/>
        <a:p>
          <a:r>
            <a:rPr lang="ru-RU" sz="1800" b="1" i="0" dirty="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Осязательный (ощупывание)</a:t>
          </a:r>
        </a:p>
      </dgm:t>
    </dgm:pt>
    <dgm:pt modelId="{42C7328E-F8FB-4D94-BA8A-B534B9C2DE29}" type="parTrans" cxnId="{2432B60B-D2C1-4C2B-B2ED-211BDA9B5338}">
      <dgm:prSet/>
      <dgm:spPr/>
      <dgm:t>
        <a:bodyPr/>
        <a:lstStyle/>
        <a:p>
          <a:endParaRPr lang="ru-RU" sz="1800" b="1" i="1">
            <a:solidFill>
              <a:schemeClr val="accent6">
                <a:lumMod val="50000"/>
              </a:schemeClr>
            </a:solidFill>
            <a:latin typeface="Monotype Corsiva" pitchFamily="66" charset="0"/>
          </a:endParaRPr>
        </a:p>
      </dgm:t>
    </dgm:pt>
    <dgm:pt modelId="{FAF0925A-6E50-4106-9207-B821F93B7CCC}" type="sibTrans" cxnId="{2432B60B-D2C1-4C2B-B2ED-211BDA9B5338}">
      <dgm:prSet/>
      <dgm:spPr/>
      <dgm:t>
        <a:bodyPr/>
        <a:lstStyle/>
        <a:p>
          <a:endParaRPr lang="ru-RU" sz="1800" b="1" i="1">
            <a:solidFill>
              <a:schemeClr val="accent6">
                <a:lumMod val="50000"/>
              </a:schemeClr>
            </a:solidFill>
            <a:latin typeface="Monotype Corsiva" pitchFamily="66" charset="0"/>
          </a:endParaRPr>
        </a:p>
      </dgm:t>
    </dgm:pt>
    <dgm:pt modelId="{E84234BA-196F-4224-B1CD-A28EA9F930FA}">
      <dgm:prSet custT="1"/>
      <dgm:spPr/>
      <dgm:t>
        <a:bodyPr/>
        <a:lstStyle/>
        <a:p>
          <a:r>
            <a:rPr lang="ru-RU" sz="1800" b="1" i="0" dirty="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Ориентирование относительно своего тела</a:t>
          </a:r>
        </a:p>
      </dgm:t>
    </dgm:pt>
    <dgm:pt modelId="{80EA69F6-39BE-4607-BAFA-FFBBCE334D78}" type="parTrans" cxnId="{CD64B7A4-D3A8-4C2E-AE09-D3F59C33933F}">
      <dgm:prSet/>
      <dgm:spPr/>
      <dgm:t>
        <a:bodyPr/>
        <a:lstStyle/>
        <a:p>
          <a:endParaRPr lang="ru-RU" sz="1800" b="1" i="1">
            <a:solidFill>
              <a:schemeClr val="accent6">
                <a:lumMod val="50000"/>
              </a:schemeClr>
            </a:solidFill>
            <a:latin typeface="Monotype Corsiva" pitchFamily="66" charset="0"/>
          </a:endParaRPr>
        </a:p>
      </dgm:t>
    </dgm:pt>
    <dgm:pt modelId="{D8A4CA7B-0BFF-4611-A9ED-F74E35811C2E}" type="sibTrans" cxnId="{CD64B7A4-D3A8-4C2E-AE09-D3F59C33933F}">
      <dgm:prSet/>
      <dgm:spPr/>
      <dgm:t>
        <a:bodyPr/>
        <a:lstStyle/>
        <a:p>
          <a:endParaRPr lang="ru-RU" sz="1800" b="1" i="1">
            <a:solidFill>
              <a:schemeClr val="accent6">
                <a:lumMod val="50000"/>
              </a:schemeClr>
            </a:solidFill>
            <a:latin typeface="Monotype Corsiva" pitchFamily="66" charset="0"/>
          </a:endParaRPr>
        </a:p>
      </dgm:t>
    </dgm:pt>
    <dgm:pt modelId="{25D5BF48-35DA-4851-8662-B7B95BD95DD8}">
      <dgm:prSet custT="1"/>
      <dgm:spPr/>
      <dgm:t>
        <a:bodyPr/>
        <a:lstStyle/>
        <a:p>
          <a:r>
            <a:rPr lang="ru-RU" sz="1800" b="1" i="0" dirty="0" err="1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Ориентирова</a:t>
          </a:r>
          <a:endParaRPr lang="ru-RU" sz="1800" b="1" i="0" dirty="0">
            <a:solidFill>
              <a:schemeClr val="tx1"/>
            </a:solidFill>
            <a:latin typeface="Times New Roman" panose="02020603050405020304" pitchFamily="18" charset="0"/>
            <a:cs typeface="Times New Roman" panose="02020603050405020304" pitchFamily="18" charset="0"/>
          </a:endParaRPr>
        </a:p>
        <a:p>
          <a:r>
            <a:rPr lang="ru-RU" sz="1800" b="1" i="0" dirty="0" err="1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ние</a:t>
          </a:r>
          <a:r>
            <a:rPr lang="ru-RU" sz="1800" b="1" i="0" dirty="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 относительно точки отсчета</a:t>
          </a:r>
        </a:p>
      </dgm:t>
    </dgm:pt>
    <dgm:pt modelId="{27776F86-E848-4BF6-A2ED-9AB15872CCBA}" type="parTrans" cxnId="{7A562E5B-7520-488E-A9CE-48156F8EDECB}">
      <dgm:prSet/>
      <dgm:spPr/>
      <dgm:t>
        <a:bodyPr/>
        <a:lstStyle/>
        <a:p>
          <a:endParaRPr lang="ru-RU" sz="1800" b="1" i="1">
            <a:solidFill>
              <a:schemeClr val="accent6">
                <a:lumMod val="50000"/>
              </a:schemeClr>
            </a:solidFill>
            <a:latin typeface="Monotype Corsiva" pitchFamily="66" charset="0"/>
          </a:endParaRPr>
        </a:p>
      </dgm:t>
    </dgm:pt>
    <dgm:pt modelId="{AF16472F-F33C-47D5-9C21-6F3DDB7BE5B9}" type="sibTrans" cxnId="{7A562E5B-7520-488E-A9CE-48156F8EDECB}">
      <dgm:prSet/>
      <dgm:spPr/>
      <dgm:t>
        <a:bodyPr/>
        <a:lstStyle/>
        <a:p>
          <a:endParaRPr lang="ru-RU" sz="1800" b="1" i="1">
            <a:solidFill>
              <a:schemeClr val="accent6">
                <a:lumMod val="50000"/>
              </a:schemeClr>
            </a:solidFill>
            <a:latin typeface="Monotype Corsiva" pitchFamily="66" charset="0"/>
          </a:endParaRPr>
        </a:p>
      </dgm:t>
    </dgm:pt>
    <dgm:pt modelId="{B58B5C30-10EE-47C1-A915-904EE597EDE6}" type="pres">
      <dgm:prSet presAssocID="{0DCB4939-9805-4E8D-8352-132C56E9C2EF}" presName="mainComposite" presStyleCnt="0">
        <dgm:presLayoutVars>
          <dgm:chPref val="1"/>
          <dgm:dir/>
          <dgm:animOne val="branch"/>
          <dgm:animLvl val="lvl"/>
          <dgm:resizeHandles val="exact"/>
        </dgm:presLayoutVars>
      </dgm:prSet>
      <dgm:spPr/>
    </dgm:pt>
    <dgm:pt modelId="{40C92072-8CFE-4ADC-A9B4-954CEACB5741}" type="pres">
      <dgm:prSet presAssocID="{0DCB4939-9805-4E8D-8352-132C56E9C2EF}" presName="hierFlow" presStyleCnt="0"/>
      <dgm:spPr/>
    </dgm:pt>
    <dgm:pt modelId="{6527BDB9-5C35-455A-81CC-0B420F36AD65}" type="pres">
      <dgm:prSet presAssocID="{0DCB4939-9805-4E8D-8352-132C56E9C2EF}" presName="hierChild1" presStyleCnt="0">
        <dgm:presLayoutVars>
          <dgm:chPref val="1"/>
          <dgm:animOne val="branch"/>
          <dgm:animLvl val="lvl"/>
        </dgm:presLayoutVars>
      </dgm:prSet>
      <dgm:spPr/>
    </dgm:pt>
    <dgm:pt modelId="{F2380892-86BC-42CA-9579-93F702AD4EE3}" type="pres">
      <dgm:prSet presAssocID="{C6D2F394-5EE6-4519-89A1-6E4814FB3570}" presName="Name14" presStyleCnt="0"/>
      <dgm:spPr/>
    </dgm:pt>
    <dgm:pt modelId="{2F829BA3-D112-442D-BC02-1A87B6F5B247}" type="pres">
      <dgm:prSet presAssocID="{C6D2F394-5EE6-4519-89A1-6E4814FB3570}" presName="level1Shape" presStyleLbl="node0" presStyleIdx="0" presStyleCnt="1" custScaleX="1089179" custScaleY="574851" custLinFactX="-100000" custLinFactY="-100000" custLinFactNeighborX="-119505" custLinFactNeighborY="-145927">
        <dgm:presLayoutVars>
          <dgm:chPref val="3"/>
        </dgm:presLayoutVars>
      </dgm:prSet>
      <dgm:spPr/>
    </dgm:pt>
    <dgm:pt modelId="{52A072D0-CB2A-42A9-96D3-DB012845F9BB}" type="pres">
      <dgm:prSet presAssocID="{C6D2F394-5EE6-4519-89A1-6E4814FB3570}" presName="hierChild2" presStyleCnt="0"/>
      <dgm:spPr/>
    </dgm:pt>
    <dgm:pt modelId="{643B354F-6BD7-40A8-9DC6-1AC51CDFCC53}" type="pres">
      <dgm:prSet presAssocID="{538A8218-B3B6-4A5B-AB91-1A64BA20A483}" presName="Name19" presStyleLbl="parChTrans1D2" presStyleIdx="0" presStyleCnt="4"/>
      <dgm:spPr/>
    </dgm:pt>
    <dgm:pt modelId="{7E43E8A6-5392-4052-B4F7-B0EFE6071C65}" type="pres">
      <dgm:prSet presAssocID="{F4BB9AD1-FC4C-4388-9BB0-ECDF8C4BCD51}" presName="Name21" presStyleCnt="0"/>
      <dgm:spPr/>
    </dgm:pt>
    <dgm:pt modelId="{20DAA6E9-8737-48B8-8004-1C790B03B672}" type="pres">
      <dgm:prSet presAssocID="{F4BB9AD1-FC4C-4388-9BB0-ECDF8C4BCD51}" presName="level2Shape" presStyleLbl="node2" presStyleIdx="0" presStyleCnt="4" custScaleX="446632" custScaleY="271298" custLinFactX="-70054" custLinFactNeighborX="-100000" custLinFactNeighborY="-36515"/>
      <dgm:spPr/>
    </dgm:pt>
    <dgm:pt modelId="{3908BD98-99DB-4D7E-ACA8-0D836F11119E}" type="pres">
      <dgm:prSet presAssocID="{F4BB9AD1-FC4C-4388-9BB0-ECDF8C4BCD51}" presName="hierChild3" presStyleCnt="0"/>
      <dgm:spPr/>
    </dgm:pt>
    <dgm:pt modelId="{BA964556-8C61-4F87-8B18-47820F8829C0}" type="pres">
      <dgm:prSet presAssocID="{80EA69F6-39BE-4607-BAFA-FFBBCE334D78}" presName="Name19" presStyleLbl="parChTrans1D3" presStyleIdx="0" presStyleCnt="2"/>
      <dgm:spPr/>
    </dgm:pt>
    <dgm:pt modelId="{926910DA-BB0F-4B22-B667-E750631C06A3}" type="pres">
      <dgm:prSet presAssocID="{E84234BA-196F-4224-B1CD-A28EA9F930FA}" presName="Name21" presStyleCnt="0"/>
      <dgm:spPr/>
    </dgm:pt>
    <dgm:pt modelId="{28DCCA72-F3F3-47ED-B4F0-768CFD2C4D43}" type="pres">
      <dgm:prSet presAssocID="{E84234BA-196F-4224-B1CD-A28EA9F930FA}" presName="level2Shape" presStyleLbl="node3" presStyleIdx="0" presStyleCnt="2" custScaleX="489619" custScaleY="341885" custLinFactX="100000" custLinFactY="57859" custLinFactNeighborX="102366" custLinFactNeighborY="100000"/>
      <dgm:spPr/>
    </dgm:pt>
    <dgm:pt modelId="{499D7DF0-D6C5-4C0F-BAD9-5C2CE966A5D9}" type="pres">
      <dgm:prSet presAssocID="{E84234BA-196F-4224-B1CD-A28EA9F930FA}" presName="hierChild3" presStyleCnt="0"/>
      <dgm:spPr/>
    </dgm:pt>
    <dgm:pt modelId="{6DCE74EF-8CA7-46A2-BCC9-932D8D93F9E4}" type="pres">
      <dgm:prSet presAssocID="{27776F86-E848-4BF6-A2ED-9AB15872CCBA}" presName="Name19" presStyleLbl="parChTrans1D3" presStyleIdx="1" presStyleCnt="2"/>
      <dgm:spPr/>
    </dgm:pt>
    <dgm:pt modelId="{396A8CCF-92F5-4FC6-91B7-978FD39FB59B}" type="pres">
      <dgm:prSet presAssocID="{25D5BF48-35DA-4851-8662-B7B95BD95DD8}" presName="Name21" presStyleCnt="0"/>
      <dgm:spPr/>
    </dgm:pt>
    <dgm:pt modelId="{61B7DA73-6EA7-44B0-9738-275721F95D4C}" type="pres">
      <dgm:prSet presAssocID="{25D5BF48-35DA-4851-8662-B7B95BD95DD8}" presName="level2Shape" presStyleLbl="node3" presStyleIdx="1" presStyleCnt="2" custScaleX="401726" custScaleY="284818" custLinFactX="164712" custLinFactY="56270" custLinFactNeighborX="200000" custLinFactNeighborY="100000"/>
      <dgm:spPr/>
    </dgm:pt>
    <dgm:pt modelId="{6785ABA7-047E-4320-9093-5B3448E33BF7}" type="pres">
      <dgm:prSet presAssocID="{25D5BF48-35DA-4851-8662-B7B95BD95DD8}" presName="hierChild3" presStyleCnt="0"/>
      <dgm:spPr/>
    </dgm:pt>
    <dgm:pt modelId="{06CE81FC-606E-4258-85A2-0C6E570AA38C}" type="pres">
      <dgm:prSet presAssocID="{42C7328E-F8FB-4D94-BA8A-B534B9C2DE29}" presName="Name19" presStyleLbl="parChTrans1D2" presStyleIdx="1" presStyleCnt="4"/>
      <dgm:spPr/>
    </dgm:pt>
    <dgm:pt modelId="{916215FB-6DEF-4129-95F6-FB17FD2BE7BE}" type="pres">
      <dgm:prSet presAssocID="{0BD9709F-A7BA-429E-B2A0-48B622BF6F2B}" presName="Name21" presStyleCnt="0"/>
      <dgm:spPr/>
    </dgm:pt>
    <dgm:pt modelId="{4710500F-038E-4A1C-9958-EACEFE9F3E42}" type="pres">
      <dgm:prSet presAssocID="{0BD9709F-A7BA-429E-B2A0-48B622BF6F2B}" presName="level2Shape" presStyleLbl="node2" presStyleIdx="1" presStyleCnt="4" custScaleX="469961" custScaleY="198771" custLinFactX="-43841" custLinFactNeighborX="-100000" custLinFactNeighborY="6185"/>
      <dgm:spPr/>
    </dgm:pt>
    <dgm:pt modelId="{A8125828-2A04-40DF-9727-6CE80409ACE6}" type="pres">
      <dgm:prSet presAssocID="{0BD9709F-A7BA-429E-B2A0-48B622BF6F2B}" presName="hierChild3" presStyleCnt="0"/>
      <dgm:spPr/>
    </dgm:pt>
    <dgm:pt modelId="{E7029C18-6CAF-4A62-B139-88D42DB3DBB3}" type="pres">
      <dgm:prSet presAssocID="{EC2D53ED-1AEA-49DA-B1E8-395A4DEF9501}" presName="Name19" presStyleLbl="parChTrans1D2" presStyleIdx="2" presStyleCnt="4"/>
      <dgm:spPr/>
    </dgm:pt>
    <dgm:pt modelId="{5F238062-27B6-49EC-A7F7-3F01A0F172BA}" type="pres">
      <dgm:prSet presAssocID="{28DBA893-B625-4C22-A61D-0DE3312E6A0E}" presName="Name21" presStyleCnt="0"/>
      <dgm:spPr/>
    </dgm:pt>
    <dgm:pt modelId="{7AC346CA-74E1-4E98-819B-6D8087AE51E5}" type="pres">
      <dgm:prSet presAssocID="{28DBA893-B625-4C22-A61D-0DE3312E6A0E}" presName="level2Shape" presStyleLbl="node2" presStyleIdx="2" presStyleCnt="4" custScaleX="412730" custScaleY="259800" custLinFactX="-1221" custLinFactNeighborX="-100000" custLinFactNeighborY="31529"/>
      <dgm:spPr/>
    </dgm:pt>
    <dgm:pt modelId="{B280FF12-4F18-4B23-8597-D7F707BCE0C9}" type="pres">
      <dgm:prSet presAssocID="{28DBA893-B625-4C22-A61D-0DE3312E6A0E}" presName="hierChild3" presStyleCnt="0"/>
      <dgm:spPr/>
    </dgm:pt>
    <dgm:pt modelId="{055D142B-BFBA-425C-8DB8-A1EF0B2D1D20}" type="pres">
      <dgm:prSet presAssocID="{004557EC-AA13-49B5-9D8C-D592FA2CA3D2}" presName="Name19" presStyleLbl="parChTrans1D2" presStyleIdx="3" presStyleCnt="4"/>
      <dgm:spPr/>
    </dgm:pt>
    <dgm:pt modelId="{A5221559-128A-4F6E-8502-3C40D4C47F10}" type="pres">
      <dgm:prSet presAssocID="{DD9443E1-83C9-497C-87C3-6DF5E6AEA9A9}" presName="Name21" presStyleCnt="0"/>
      <dgm:spPr/>
    </dgm:pt>
    <dgm:pt modelId="{1D856F64-8FF7-4977-A07D-8CFEC55905E4}" type="pres">
      <dgm:prSet presAssocID="{DD9443E1-83C9-497C-87C3-6DF5E6AEA9A9}" presName="level2Shape" presStyleLbl="node2" presStyleIdx="3" presStyleCnt="4" custScaleX="381656" custScaleY="288942" custLinFactNeighborX="-71114" custLinFactNeighborY="-6879"/>
      <dgm:spPr/>
    </dgm:pt>
    <dgm:pt modelId="{EBD28E8F-2307-4EF1-8E7F-FEAE91734177}" type="pres">
      <dgm:prSet presAssocID="{DD9443E1-83C9-497C-87C3-6DF5E6AEA9A9}" presName="hierChild3" presStyleCnt="0"/>
      <dgm:spPr/>
    </dgm:pt>
    <dgm:pt modelId="{CDBC0F96-15E1-4FEF-8921-AC4836176E26}" type="pres">
      <dgm:prSet presAssocID="{0DCB4939-9805-4E8D-8352-132C56E9C2EF}" presName="bgShapesFlow" presStyleCnt="0"/>
      <dgm:spPr/>
    </dgm:pt>
  </dgm:ptLst>
  <dgm:cxnLst>
    <dgm:cxn modelId="{2432B60B-D2C1-4C2B-B2ED-211BDA9B5338}" srcId="{C6D2F394-5EE6-4519-89A1-6E4814FB3570}" destId="{0BD9709F-A7BA-429E-B2A0-48B622BF6F2B}" srcOrd="1" destOrd="0" parTransId="{42C7328E-F8FB-4D94-BA8A-B534B9C2DE29}" sibTransId="{FAF0925A-6E50-4106-9207-B821F93B7CCC}"/>
    <dgm:cxn modelId="{9E62FD2C-185D-4509-B900-88C627A0F7A7}" type="presOf" srcId="{27776F86-E848-4BF6-A2ED-9AB15872CCBA}" destId="{6DCE74EF-8CA7-46A2-BCC9-932D8D93F9E4}" srcOrd="0" destOrd="0" presId="urn:microsoft.com/office/officeart/2005/8/layout/hierarchy6"/>
    <dgm:cxn modelId="{39272F2F-C850-454D-A6C5-DA005E3849C1}" type="presOf" srcId="{42C7328E-F8FB-4D94-BA8A-B534B9C2DE29}" destId="{06CE81FC-606E-4258-85A2-0C6E570AA38C}" srcOrd="0" destOrd="0" presId="urn:microsoft.com/office/officeart/2005/8/layout/hierarchy6"/>
    <dgm:cxn modelId="{2C85BE36-E57F-440D-BDA4-C034A9EDFD39}" type="presOf" srcId="{80EA69F6-39BE-4607-BAFA-FFBBCE334D78}" destId="{BA964556-8C61-4F87-8B18-47820F8829C0}" srcOrd="0" destOrd="0" presId="urn:microsoft.com/office/officeart/2005/8/layout/hierarchy6"/>
    <dgm:cxn modelId="{E3ABD43A-8E30-4A27-BA18-4D9484FA2D0C}" type="presOf" srcId="{EC2D53ED-1AEA-49DA-B1E8-395A4DEF9501}" destId="{E7029C18-6CAF-4A62-B139-88D42DB3DBB3}" srcOrd="0" destOrd="0" presId="urn:microsoft.com/office/officeart/2005/8/layout/hierarchy6"/>
    <dgm:cxn modelId="{7A562E5B-7520-488E-A9CE-48156F8EDECB}" srcId="{F4BB9AD1-FC4C-4388-9BB0-ECDF8C4BCD51}" destId="{25D5BF48-35DA-4851-8662-B7B95BD95DD8}" srcOrd="1" destOrd="0" parTransId="{27776F86-E848-4BF6-A2ED-9AB15872CCBA}" sibTransId="{AF16472F-F33C-47D5-9C21-6F3DDB7BE5B9}"/>
    <dgm:cxn modelId="{0A4D4C5B-5EAD-46C5-AA4E-9A34A1B25658}" srcId="{0DCB4939-9805-4E8D-8352-132C56E9C2EF}" destId="{C6D2F394-5EE6-4519-89A1-6E4814FB3570}" srcOrd="0" destOrd="0" parTransId="{0CAA281B-9B3E-4858-85B7-D9F0BDB3ECC7}" sibTransId="{0B99EB05-DA01-4948-85A2-4B52F361EFB8}"/>
    <dgm:cxn modelId="{8D60C75C-A058-4827-AF65-4143993826C6}" type="presOf" srcId="{E84234BA-196F-4224-B1CD-A28EA9F930FA}" destId="{28DCCA72-F3F3-47ED-B4F0-768CFD2C4D43}" srcOrd="0" destOrd="0" presId="urn:microsoft.com/office/officeart/2005/8/layout/hierarchy6"/>
    <dgm:cxn modelId="{F916A562-4DA1-4E63-B993-3082427E92A1}" type="presOf" srcId="{C6D2F394-5EE6-4519-89A1-6E4814FB3570}" destId="{2F829BA3-D112-442D-BC02-1A87B6F5B247}" srcOrd="0" destOrd="0" presId="urn:microsoft.com/office/officeart/2005/8/layout/hierarchy6"/>
    <dgm:cxn modelId="{02BB1B4F-186C-4317-8CFC-F9C3DE85AE34}" type="presOf" srcId="{0DCB4939-9805-4E8D-8352-132C56E9C2EF}" destId="{B58B5C30-10EE-47C1-A915-904EE597EDE6}" srcOrd="0" destOrd="0" presId="urn:microsoft.com/office/officeart/2005/8/layout/hierarchy6"/>
    <dgm:cxn modelId="{73997959-5C92-4A95-8377-FBF8497A1B64}" type="presOf" srcId="{25D5BF48-35DA-4851-8662-B7B95BD95DD8}" destId="{61B7DA73-6EA7-44B0-9738-275721F95D4C}" srcOrd="0" destOrd="0" presId="urn:microsoft.com/office/officeart/2005/8/layout/hierarchy6"/>
    <dgm:cxn modelId="{04BFB989-5BFE-4DE6-9B1B-BAED0D6F20B3}" srcId="{C6D2F394-5EE6-4519-89A1-6E4814FB3570}" destId="{28DBA893-B625-4C22-A61D-0DE3312E6A0E}" srcOrd="2" destOrd="0" parTransId="{EC2D53ED-1AEA-49DA-B1E8-395A4DEF9501}" sibTransId="{E780FE85-19C0-4B6A-B260-18A1B86220CD}"/>
    <dgm:cxn modelId="{C47EA98A-3BE3-4F36-9D98-6E6D9816E261}" srcId="{C6D2F394-5EE6-4519-89A1-6E4814FB3570}" destId="{DD9443E1-83C9-497C-87C3-6DF5E6AEA9A9}" srcOrd="3" destOrd="0" parTransId="{004557EC-AA13-49B5-9D8C-D592FA2CA3D2}" sibTransId="{A29985C0-A989-45BB-8ED2-1C189ACD2753}"/>
    <dgm:cxn modelId="{53AA9791-9CD0-44C9-874C-9A16B185BCB3}" type="presOf" srcId="{F4BB9AD1-FC4C-4388-9BB0-ECDF8C4BCD51}" destId="{20DAA6E9-8737-48B8-8004-1C790B03B672}" srcOrd="0" destOrd="0" presId="urn:microsoft.com/office/officeart/2005/8/layout/hierarchy6"/>
    <dgm:cxn modelId="{CD64B7A4-D3A8-4C2E-AE09-D3F59C33933F}" srcId="{F4BB9AD1-FC4C-4388-9BB0-ECDF8C4BCD51}" destId="{E84234BA-196F-4224-B1CD-A28EA9F930FA}" srcOrd="0" destOrd="0" parTransId="{80EA69F6-39BE-4607-BAFA-FFBBCE334D78}" sibTransId="{D8A4CA7B-0BFF-4611-A9ED-F74E35811C2E}"/>
    <dgm:cxn modelId="{3FE47FB2-6B18-47E7-8356-3E6418CD829B}" type="presOf" srcId="{DD9443E1-83C9-497C-87C3-6DF5E6AEA9A9}" destId="{1D856F64-8FF7-4977-A07D-8CFEC55905E4}" srcOrd="0" destOrd="0" presId="urn:microsoft.com/office/officeart/2005/8/layout/hierarchy6"/>
    <dgm:cxn modelId="{BAB946C2-B1D2-4EB4-8E95-57E5DFD7D294}" type="presOf" srcId="{28DBA893-B625-4C22-A61D-0DE3312E6A0E}" destId="{7AC346CA-74E1-4E98-819B-6D8087AE51E5}" srcOrd="0" destOrd="0" presId="urn:microsoft.com/office/officeart/2005/8/layout/hierarchy6"/>
    <dgm:cxn modelId="{1C1C47C3-23DF-46D2-A52E-F1E86AB55A74}" type="presOf" srcId="{0BD9709F-A7BA-429E-B2A0-48B622BF6F2B}" destId="{4710500F-038E-4A1C-9958-EACEFE9F3E42}" srcOrd="0" destOrd="0" presId="urn:microsoft.com/office/officeart/2005/8/layout/hierarchy6"/>
    <dgm:cxn modelId="{6A6ABDD1-F8FF-4D88-AAB2-8863F8BDDC73}" type="presOf" srcId="{004557EC-AA13-49B5-9D8C-D592FA2CA3D2}" destId="{055D142B-BFBA-425C-8DB8-A1EF0B2D1D20}" srcOrd="0" destOrd="0" presId="urn:microsoft.com/office/officeart/2005/8/layout/hierarchy6"/>
    <dgm:cxn modelId="{BBC8C3DC-C0B1-457C-98DE-CADAA0225033}" type="presOf" srcId="{538A8218-B3B6-4A5B-AB91-1A64BA20A483}" destId="{643B354F-6BD7-40A8-9DC6-1AC51CDFCC53}" srcOrd="0" destOrd="0" presId="urn:microsoft.com/office/officeart/2005/8/layout/hierarchy6"/>
    <dgm:cxn modelId="{F0CEBAE6-B6ED-4D7C-A7D7-27EB988A24F5}" srcId="{C6D2F394-5EE6-4519-89A1-6E4814FB3570}" destId="{F4BB9AD1-FC4C-4388-9BB0-ECDF8C4BCD51}" srcOrd="0" destOrd="0" parTransId="{538A8218-B3B6-4A5B-AB91-1A64BA20A483}" sibTransId="{B8546EA6-CE01-4598-87D0-1E86FE97BD18}"/>
    <dgm:cxn modelId="{5CBE1EF7-9DA1-40AC-9344-85D1747A3978}" type="presParOf" srcId="{B58B5C30-10EE-47C1-A915-904EE597EDE6}" destId="{40C92072-8CFE-4ADC-A9B4-954CEACB5741}" srcOrd="0" destOrd="0" presId="urn:microsoft.com/office/officeart/2005/8/layout/hierarchy6"/>
    <dgm:cxn modelId="{4AD47332-3014-4BDF-B310-967A98A98AFF}" type="presParOf" srcId="{40C92072-8CFE-4ADC-A9B4-954CEACB5741}" destId="{6527BDB9-5C35-455A-81CC-0B420F36AD65}" srcOrd="0" destOrd="0" presId="urn:microsoft.com/office/officeart/2005/8/layout/hierarchy6"/>
    <dgm:cxn modelId="{E3E02836-002F-44D3-9B71-0F99F4A85183}" type="presParOf" srcId="{6527BDB9-5C35-455A-81CC-0B420F36AD65}" destId="{F2380892-86BC-42CA-9579-93F702AD4EE3}" srcOrd="0" destOrd="0" presId="urn:microsoft.com/office/officeart/2005/8/layout/hierarchy6"/>
    <dgm:cxn modelId="{CAF69E1E-6C07-4A91-8027-D802CD352A8F}" type="presParOf" srcId="{F2380892-86BC-42CA-9579-93F702AD4EE3}" destId="{2F829BA3-D112-442D-BC02-1A87B6F5B247}" srcOrd="0" destOrd="0" presId="urn:microsoft.com/office/officeart/2005/8/layout/hierarchy6"/>
    <dgm:cxn modelId="{FA6D73B2-42A5-4671-B5D0-BB86447AD9E3}" type="presParOf" srcId="{F2380892-86BC-42CA-9579-93F702AD4EE3}" destId="{52A072D0-CB2A-42A9-96D3-DB012845F9BB}" srcOrd="1" destOrd="0" presId="urn:microsoft.com/office/officeart/2005/8/layout/hierarchy6"/>
    <dgm:cxn modelId="{B929CD5D-4443-4C3F-96FE-B56FBD4593DC}" type="presParOf" srcId="{52A072D0-CB2A-42A9-96D3-DB012845F9BB}" destId="{643B354F-6BD7-40A8-9DC6-1AC51CDFCC53}" srcOrd="0" destOrd="0" presId="urn:microsoft.com/office/officeart/2005/8/layout/hierarchy6"/>
    <dgm:cxn modelId="{A4976AA0-D456-438B-B219-A5294927F7E1}" type="presParOf" srcId="{52A072D0-CB2A-42A9-96D3-DB012845F9BB}" destId="{7E43E8A6-5392-4052-B4F7-B0EFE6071C65}" srcOrd="1" destOrd="0" presId="urn:microsoft.com/office/officeart/2005/8/layout/hierarchy6"/>
    <dgm:cxn modelId="{AB39F21F-21A2-4EEC-8207-9FAA3199A7BA}" type="presParOf" srcId="{7E43E8A6-5392-4052-B4F7-B0EFE6071C65}" destId="{20DAA6E9-8737-48B8-8004-1C790B03B672}" srcOrd="0" destOrd="0" presId="urn:microsoft.com/office/officeart/2005/8/layout/hierarchy6"/>
    <dgm:cxn modelId="{FC0C8B98-608F-498A-87C8-45EFEDBD9660}" type="presParOf" srcId="{7E43E8A6-5392-4052-B4F7-B0EFE6071C65}" destId="{3908BD98-99DB-4D7E-ACA8-0D836F11119E}" srcOrd="1" destOrd="0" presId="urn:microsoft.com/office/officeart/2005/8/layout/hierarchy6"/>
    <dgm:cxn modelId="{1563EB01-606E-4A2F-AB3B-4DFD10770954}" type="presParOf" srcId="{3908BD98-99DB-4D7E-ACA8-0D836F11119E}" destId="{BA964556-8C61-4F87-8B18-47820F8829C0}" srcOrd="0" destOrd="0" presId="urn:microsoft.com/office/officeart/2005/8/layout/hierarchy6"/>
    <dgm:cxn modelId="{CC468772-B83F-487C-B467-32C1EA5B94E6}" type="presParOf" srcId="{3908BD98-99DB-4D7E-ACA8-0D836F11119E}" destId="{926910DA-BB0F-4B22-B667-E750631C06A3}" srcOrd="1" destOrd="0" presId="urn:microsoft.com/office/officeart/2005/8/layout/hierarchy6"/>
    <dgm:cxn modelId="{9706830B-21FC-4E0A-9277-E68884D1C958}" type="presParOf" srcId="{926910DA-BB0F-4B22-B667-E750631C06A3}" destId="{28DCCA72-F3F3-47ED-B4F0-768CFD2C4D43}" srcOrd="0" destOrd="0" presId="urn:microsoft.com/office/officeart/2005/8/layout/hierarchy6"/>
    <dgm:cxn modelId="{7B85DE60-CE56-4901-9DD1-91D5AEFD4084}" type="presParOf" srcId="{926910DA-BB0F-4B22-B667-E750631C06A3}" destId="{499D7DF0-D6C5-4C0F-BAD9-5C2CE966A5D9}" srcOrd="1" destOrd="0" presId="urn:microsoft.com/office/officeart/2005/8/layout/hierarchy6"/>
    <dgm:cxn modelId="{43BCDA14-FC45-4CBD-8140-CB4B8558CA9A}" type="presParOf" srcId="{3908BD98-99DB-4D7E-ACA8-0D836F11119E}" destId="{6DCE74EF-8CA7-46A2-BCC9-932D8D93F9E4}" srcOrd="2" destOrd="0" presId="urn:microsoft.com/office/officeart/2005/8/layout/hierarchy6"/>
    <dgm:cxn modelId="{B6A905B6-10F9-4CD1-8757-1F8274810EE7}" type="presParOf" srcId="{3908BD98-99DB-4D7E-ACA8-0D836F11119E}" destId="{396A8CCF-92F5-4FC6-91B7-978FD39FB59B}" srcOrd="3" destOrd="0" presId="urn:microsoft.com/office/officeart/2005/8/layout/hierarchy6"/>
    <dgm:cxn modelId="{A91647DA-4AFD-481B-A87E-D4CA6A76A22B}" type="presParOf" srcId="{396A8CCF-92F5-4FC6-91B7-978FD39FB59B}" destId="{61B7DA73-6EA7-44B0-9738-275721F95D4C}" srcOrd="0" destOrd="0" presId="urn:microsoft.com/office/officeart/2005/8/layout/hierarchy6"/>
    <dgm:cxn modelId="{87648F86-1E25-4066-A792-14E10F68397A}" type="presParOf" srcId="{396A8CCF-92F5-4FC6-91B7-978FD39FB59B}" destId="{6785ABA7-047E-4320-9093-5B3448E33BF7}" srcOrd="1" destOrd="0" presId="urn:microsoft.com/office/officeart/2005/8/layout/hierarchy6"/>
    <dgm:cxn modelId="{5C77FC97-A1C3-4824-9E9F-0B752E1B4149}" type="presParOf" srcId="{52A072D0-CB2A-42A9-96D3-DB012845F9BB}" destId="{06CE81FC-606E-4258-85A2-0C6E570AA38C}" srcOrd="2" destOrd="0" presId="urn:microsoft.com/office/officeart/2005/8/layout/hierarchy6"/>
    <dgm:cxn modelId="{5767640A-1996-4675-8DC5-5D96525D2DB9}" type="presParOf" srcId="{52A072D0-CB2A-42A9-96D3-DB012845F9BB}" destId="{916215FB-6DEF-4129-95F6-FB17FD2BE7BE}" srcOrd="3" destOrd="0" presId="urn:microsoft.com/office/officeart/2005/8/layout/hierarchy6"/>
    <dgm:cxn modelId="{4EA93CD8-656F-44FD-8A9E-85F3B973C2AA}" type="presParOf" srcId="{916215FB-6DEF-4129-95F6-FB17FD2BE7BE}" destId="{4710500F-038E-4A1C-9958-EACEFE9F3E42}" srcOrd="0" destOrd="0" presId="urn:microsoft.com/office/officeart/2005/8/layout/hierarchy6"/>
    <dgm:cxn modelId="{8D8372C9-02B3-47BF-876C-493544FA5D25}" type="presParOf" srcId="{916215FB-6DEF-4129-95F6-FB17FD2BE7BE}" destId="{A8125828-2A04-40DF-9727-6CE80409ACE6}" srcOrd="1" destOrd="0" presId="urn:microsoft.com/office/officeart/2005/8/layout/hierarchy6"/>
    <dgm:cxn modelId="{53C5E387-33DA-4489-8DD5-102F4F80D378}" type="presParOf" srcId="{52A072D0-CB2A-42A9-96D3-DB012845F9BB}" destId="{E7029C18-6CAF-4A62-B139-88D42DB3DBB3}" srcOrd="4" destOrd="0" presId="urn:microsoft.com/office/officeart/2005/8/layout/hierarchy6"/>
    <dgm:cxn modelId="{B13F7277-8AA7-4A91-9853-8AEBBE5AC26D}" type="presParOf" srcId="{52A072D0-CB2A-42A9-96D3-DB012845F9BB}" destId="{5F238062-27B6-49EC-A7F7-3F01A0F172BA}" srcOrd="5" destOrd="0" presId="urn:microsoft.com/office/officeart/2005/8/layout/hierarchy6"/>
    <dgm:cxn modelId="{622F4882-420F-4107-8627-E0FE95226314}" type="presParOf" srcId="{5F238062-27B6-49EC-A7F7-3F01A0F172BA}" destId="{7AC346CA-74E1-4E98-819B-6D8087AE51E5}" srcOrd="0" destOrd="0" presId="urn:microsoft.com/office/officeart/2005/8/layout/hierarchy6"/>
    <dgm:cxn modelId="{5A9D6C20-2103-4B80-AC69-3F4934D8E37B}" type="presParOf" srcId="{5F238062-27B6-49EC-A7F7-3F01A0F172BA}" destId="{B280FF12-4F18-4B23-8597-D7F707BCE0C9}" srcOrd="1" destOrd="0" presId="urn:microsoft.com/office/officeart/2005/8/layout/hierarchy6"/>
    <dgm:cxn modelId="{082889DD-AB5D-49E0-8BBE-0106C003C7F3}" type="presParOf" srcId="{52A072D0-CB2A-42A9-96D3-DB012845F9BB}" destId="{055D142B-BFBA-425C-8DB8-A1EF0B2D1D20}" srcOrd="6" destOrd="0" presId="urn:microsoft.com/office/officeart/2005/8/layout/hierarchy6"/>
    <dgm:cxn modelId="{747A167C-FBAF-4B9A-BAD7-6A5B237976AA}" type="presParOf" srcId="{52A072D0-CB2A-42A9-96D3-DB012845F9BB}" destId="{A5221559-128A-4F6E-8502-3C40D4C47F10}" srcOrd="7" destOrd="0" presId="urn:microsoft.com/office/officeart/2005/8/layout/hierarchy6"/>
    <dgm:cxn modelId="{ACEA297B-07B1-41A2-8EEC-1E003DFBD145}" type="presParOf" srcId="{A5221559-128A-4F6E-8502-3C40D4C47F10}" destId="{1D856F64-8FF7-4977-A07D-8CFEC55905E4}" srcOrd="0" destOrd="0" presId="urn:microsoft.com/office/officeart/2005/8/layout/hierarchy6"/>
    <dgm:cxn modelId="{758DBD1D-2956-48DB-878F-7AAD58A32500}" type="presParOf" srcId="{A5221559-128A-4F6E-8502-3C40D4C47F10}" destId="{EBD28E8F-2307-4EF1-8E7F-FEAE91734177}" srcOrd="1" destOrd="0" presId="urn:microsoft.com/office/officeart/2005/8/layout/hierarchy6"/>
    <dgm:cxn modelId="{1CB33730-A540-477C-975A-4DD83F882AE5}" type="presParOf" srcId="{B58B5C30-10EE-47C1-A915-904EE597EDE6}" destId="{CDBC0F96-15E1-4FEF-8921-AC4836176E26}" srcOrd="1" destOrd="0" presId="urn:microsoft.com/office/officeart/2005/8/layout/hierarchy6"/>
  </dgm:cxnLst>
  <dgm:bg>
    <a:effectLst/>
  </dgm:bg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B7F184E7-A0D6-4326-AE8D-DB276203D8E2}" type="doc">
      <dgm:prSet loTypeId="urn:microsoft.com/office/officeart/2005/8/layout/orgChart1" loCatId="hierarchy" qsTypeId="urn:microsoft.com/office/officeart/2005/8/quickstyle/3d2#1" qsCatId="3D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31688A5E-30A9-49BD-994B-25AC5AB56E74}">
      <dgm:prSet phldrT="[Текст]" custT="1"/>
      <dgm:spPr>
        <a:solidFill>
          <a:schemeClr val="bg1"/>
        </a:solidFill>
      </dgm:spPr>
      <dgm:t>
        <a:bodyPr/>
        <a:lstStyle/>
        <a:p>
          <a:pPr algn="ctr"/>
          <a:r>
            <a:rPr lang="ru-RU" sz="3200" b="1" i="0" dirty="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Аспекты своевременного развития                                  у детей пространственных представлений</a:t>
          </a:r>
        </a:p>
      </dgm:t>
    </dgm:pt>
    <dgm:pt modelId="{86CF170A-74DA-42A9-83F1-822F5411EC23}" type="parTrans" cxnId="{CB11E8BB-166E-4562-B5A9-12C2CACFFFFD}">
      <dgm:prSet/>
      <dgm:spPr/>
      <dgm:t>
        <a:bodyPr/>
        <a:lstStyle/>
        <a:p>
          <a:endParaRPr lang="ru-RU">
            <a:solidFill>
              <a:schemeClr val="accent6">
                <a:lumMod val="50000"/>
              </a:schemeClr>
            </a:solidFill>
          </a:endParaRPr>
        </a:p>
      </dgm:t>
    </dgm:pt>
    <dgm:pt modelId="{E6EE4F7E-8F9F-40BE-8CF3-C021C9198548}" type="sibTrans" cxnId="{CB11E8BB-166E-4562-B5A9-12C2CACFFFFD}">
      <dgm:prSet/>
      <dgm:spPr/>
      <dgm:t>
        <a:bodyPr/>
        <a:lstStyle/>
        <a:p>
          <a:endParaRPr lang="ru-RU">
            <a:solidFill>
              <a:schemeClr val="accent6">
                <a:lumMod val="50000"/>
              </a:schemeClr>
            </a:solidFill>
          </a:endParaRPr>
        </a:p>
      </dgm:t>
    </dgm:pt>
    <dgm:pt modelId="{4FDD8D2F-B5A4-4533-AE8C-3E760122E2BE}">
      <dgm:prSet phldrT="[Текст]" custT="1"/>
      <dgm:spPr/>
      <dgm:t>
        <a:bodyPr/>
        <a:lstStyle/>
        <a:p>
          <a:pPr algn="ctr"/>
          <a:endParaRPr lang="ru-RU" sz="1800" b="1" i="1" u="sng" dirty="0">
            <a:solidFill>
              <a:schemeClr val="accent6">
                <a:lumMod val="50000"/>
              </a:schemeClr>
            </a:solidFill>
          </a:endParaRPr>
        </a:p>
        <a:p>
          <a:pPr algn="ctr"/>
          <a:r>
            <a:rPr lang="ru-RU" sz="2400" b="1" i="0" u="sng" dirty="0" err="1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Общеразвивающий</a:t>
          </a:r>
          <a:r>
            <a:rPr lang="ru-RU" sz="2400" b="1" i="0" u="sng" dirty="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:</a:t>
          </a:r>
        </a:p>
        <a:p>
          <a:pPr marL="108000" algn="l"/>
          <a:r>
            <a:rPr lang="ru-RU" sz="1800" dirty="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- </a:t>
          </a:r>
          <a:r>
            <a:rPr lang="ru-RU" sz="1800" dirty="0">
              <a:solidFill>
                <a:schemeClr val="tx1"/>
              </a:solidFill>
              <a:latin typeface="Segoe UI Semibold" panose="020B0702040204020203" pitchFamily="34" charset="0"/>
              <a:cs typeface="Segoe UI Semibold" panose="020B0702040204020203" pitchFamily="34" charset="0"/>
            </a:rPr>
            <a:t>умение ориентироваться в пространстве в развитии познавательной деятельности ребенка;</a:t>
          </a:r>
        </a:p>
        <a:p>
          <a:pPr marL="108000" algn="l"/>
          <a:r>
            <a:rPr lang="ru-RU" sz="1800" dirty="0">
              <a:solidFill>
                <a:schemeClr val="tx1"/>
              </a:solidFill>
              <a:latin typeface="Segoe UI Semibold" panose="020B0702040204020203" pitchFamily="34" charset="0"/>
              <a:cs typeface="Segoe UI Semibold" panose="020B0702040204020203" pitchFamily="34" charset="0"/>
            </a:rPr>
            <a:t>- совершенствование сенсорных, интеллектуальных и творческих способностей;</a:t>
          </a:r>
        </a:p>
        <a:p>
          <a:pPr marL="108000" algn="l"/>
          <a:r>
            <a:rPr lang="ru-RU" sz="1800" dirty="0">
              <a:solidFill>
                <a:schemeClr val="tx1"/>
              </a:solidFill>
              <a:latin typeface="Segoe UI Semibold" panose="020B0702040204020203" pitchFamily="34" charset="0"/>
              <a:cs typeface="Segoe UI Semibold" panose="020B0702040204020203" pitchFamily="34" charset="0"/>
            </a:rPr>
            <a:t>- повышение результативности и качества деятельности</a:t>
          </a:r>
        </a:p>
        <a:p>
          <a:pPr algn="l"/>
          <a:endParaRPr lang="ru-RU" sz="1800" dirty="0">
            <a:solidFill>
              <a:schemeClr val="accent6">
                <a:lumMod val="50000"/>
              </a:schemeClr>
            </a:solidFill>
          </a:endParaRPr>
        </a:p>
        <a:p>
          <a:pPr algn="l"/>
          <a:endParaRPr lang="ru-RU" sz="1800" dirty="0">
            <a:solidFill>
              <a:schemeClr val="accent6">
                <a:lumMod val="50000"/>
              </a:schemeClr>
            </a:solidFill>
          </a:endParaRPr>
        </a:p>
      </dgm:t>
    </dgm:pt>
    <dgm:pt modelId="{2660473B-D3D8-42BD-867A-4D9E9FCB64BF}" type="parTrans" cxnId="{0E23BF55-1665-4024-9B0F-771B8D28ADFE}">
      <dgm:prSet/>
      <dgm:spPr/>
      <dgm:t>
        <a:bodyPr/>
        <a:lstStyle/>
        <a:p>
          <a:endParaRPr lang="ru-RU">
            <a:solidFill>
              <a:schemeClr val="accent6">
                <a:lumMod val="50000"/>
              </a:schemeClr>
            </a:solidFill>
          </a:endParaRPr>
        </a:p>
      </dgm:t>
    </dgm:pt>
    <dgm:pt modelId="{04E8D1E7-DD4B-4885-97A5-515398A00689}" type="sibTrans" cxnId="{0E23BF55-1665-4024-9B0F-771B8D28ADFE}">
      <dgm:prSet/>
      <dgm:spPr/>
      <dgm:t>
        <a:bodyPr/>
        <a:lstStyle/>
        <a:p>
          <a:endParaRPr lang="ru-RU">
            <a:solidFill>
              <a:schemeClr val="accent6">
                <a:lumMod val="50000"/>
              </a:schemeClr>
            </a:solidFill>
          </a:endParaRPr>
        </a:p>
      </dgm:t>
    </dgm:pt>
    <dgm:pt modelId="{56F1A483-0874-4620-9EEA-5C5D25D7A62B}">
      <dgm:prSet phldrT="[Текст]" custT="1"/>
      <dgm:spPr/>
      <dgm:t>
        <a:bodyPr/>
        <a:lstStyle/>
        <a:p>
          <a:pPr algn="ctr"/>
          <a:r>
            <a:rPr lang="ru-RU" sz="2400" b="1" i="1" u="sng" dirty="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Математический:</a:t>
          </a:r>
        </a:p>
        <a:p>
          <a:pPr marL="72000" algn="l"/>
          <a:r>
            <a:rPr lang="ru-RU" sz="1800" b="0" i="1" dirty="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- </a:t>
          </a:r>
          <a:r>
            <a:rPr lang="ru-RU" sz="1800" b="0" i="1" dirty="0">
              <a:solidFill>
                <a:schemeClr val="tx1"/>
              </a:solidFill>
              <a:latin typeface="Segoe UI Semibold" panose="020B0702040204020203" pitchFamily="34" charset="0"/>
              <a:cs typeface="Segoe UI Semibold" panose="020B0702040204020203" pitchFamily="34" charset="0"/>
            </a:rPr>
            <a:t>владение различными способами пространственной ориентации:</a:t>
          </a:r>
        </a:p>
        <a:p>
          <a:pPr marL="180000" algn="l"/>
          <a:r>
            <a:rPr lang="ru-RU" sz="1800" b="0" i="1" dirty="0">
              <a:solidFill>
                <a:schemeClr val="tx1"/>
              </a:solidFill>
              <a:latin typeface="Segoe UI Semibold" panose="020B0702040204020203" pitchFamily="34" charset="0"/>
              <a:cs typeface="Segoe UI Semibold" panose="020B0702040204020203" pitchFamily="34" charset="0"/>
            </a:rPr>
            <a:t>     а) по схеме  тела</a:t>
          </a:r>
        </a:p>
        <a:p>
          <a:pPr marL="180000" algn="l"/>
          <a:r>
            <a:rPr lang="ru-RU" sz="1800" b="0" i="1" dirty="0">
              <a:solidFill>
                <a:schemeClr val="tx1"/>
              </a:solidFill>
              <a:latin typeface="Segoe UI Semibold" panose="020B0702040204020203" pitchFamily="34" charset="0"/>
              <a:cs typeface="Segoe UI Semibold" panose="020B0702040204020203" pitchFamily="34" charset="0"/>
            </a:rPr>
            <a:t>     б) по схеме предметов</a:t>
          </a:r>
        </a:p>
        <a:p>
          <a:pPr marL="180000" algn="l"/>
          <a:r>
            <a:rPr lang="ru-RU" sz="1800" b="0" i="1" dirty="0">
              <a:solidFill>
                <a:schemeClr val="tx1"/>
              </a:solidFill>
              <a:latin typeface="Segoe UI Semibold" panose="020B0702040204020203" pitchFamily="34" charset="0"/>
              <a:cs typeface="Segoe UI Semibold" panose="020B0702040204020203" pitchFamily="34" charset="0"/>
            </a:rPr>
            <a:t>     в) по направлениям                            пространства «от себя». </a:t>
          </a:r>
        </a:p>
        <a:p>
          <a:pPr marL="180000" algn="l"/>
          <a:r>
            <a:rPr lang="ru-RU" sz="1800" b="0" i="1" dirty="0">
              <a:solidFill>
                <a:schemeClr val="accent6">
                  <a:lumMod val="50000"/>
                </a:schemeClr>
              </a:solidFill>
              <a:latin typeface="Monotype Corsiva" pitchFamily="66" charset="0"/>
            </a:rPr>
            <a:t>       </a:t>
          </a:r>
        </a:p>
        <a:p>
          <a:pPr algn="l"/>
          <a:endParaRPr lang="ru-RU" sz="1800" dirty="0">
            <a:solidFill>
              <a:schemeClr val="accent6">
                <a:lumMod val="50000"/>
              </a:schemeClr>
            </a:solidFill>
          </a:endParaRPr>
        </a:p>
      </dgm:t>
    </dgm:pt>
    <dgm:pt modelId="{5C648393-59D4-456B-92EB-F607D804D188}" type="parTrans" cxnId="{9866BD01-6FB1-45DC-86AF-2939B9518A31}">
      <dgm:prSet/>
      <dgm:spPr/>
      <dgm:t>
        <a:bodyPr/>
        <a:lstStyle/>
        <a:p>
          <a:endParaRPr lang="ru-RU">
            <a:solidFill>
              <a:schemeClr val="accent6">
                <a:lumMod val="50000"/>
              </a:schemeClr>
            </a:solidFill>
          </a:endParaRPr>
        </a:p>
      </dgm:t>
    </dgm:pt>
    <dgm:pt modelId="{E77914DD-845D-45EB-B19D-7E8D9D93B524}" type="sibTrans" cxnId="{9866BD01-6FB1-45DC-86AF-2939B9518A31}">
      <dgm:prSet/>
      <dgm:spPr/>
      <dgm:t>
        <a:bodyPr/>
        <a:lstStyle/>
        <a:p>
          <a:endParaRPr lang="ru-RU">
            <a:solidFill>
              <a:schemeClr val="accent6">
                <a:lumMod val="50000"/>
              </a:schemeClr>
            </a:solidFill>
          </a:endParaRPr>
        </a:p>
      </dgm:t>
    </dgm:pt>
    <dgm:pt modelId="{4E43BD5C-C471-4327-8569-3387605E0203}" type="pres">
      <dgm:prSet presAssocID="{B7F184E7-A0D6-4326-AE8D-DB276203D8E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</dgm:pt>
    <dgm:pt modelId="{D8A96726-6A1E-45C4-862A-7B1A538BD887}" type="pres">
      <dgm:prSet presAssocID="{31688A5E-30A9-49BD-994B-25AC5AB56E74}" presName="hierRoot1" presStyleCnt="0">
        <dgm:presLayoutVars>
          <dgm:hierBranch val="init"/>
        </dgm:presLayoutVars>
      </dgm:prSet>
      <dgm:spPr/>
    </dgm:pt>
    <dgm:pt modelId="{3BCAA01B-B09A-4278-A54E-497906ACA26E}" type="pres">
      <dgm:prSet presAssocID="{31688A5E-30A9-49BD-994B-25AC5AB56E74}" presName="rootComposite1" presStyleCnt="0"/>
      <dgm:spPr/>
    </dgm:pt>
    <dgm:pt modelId="{E5693AE6-0AEE-43AD-A558-E110544F7ABF}" type="pres">
      <dgm:prSet presAssocID="{31688A5E-30A9-49BD-994B-25AC5AB56E74}" presName="rootText1" presStyleLbl="node0" presStyleIdx="0" presStyleCnt="1" custScaleX="233657" custScaleY="120341">
        <dgm:presLayoutVars>
          <dgm:chPref val="3"/>
        </dgm:presLayoutVars>
      </dgm:prSet>
      <dgm:spPr/>
    </dgm:pt>
    <dgm:pt modelId="{46086170-FE26-4A5B-919D-8E320AB373B6}" type="pres">
      <dgm:prSet presAssocID="{31688A5E-30A9-49BD-994B-25AC5AB56E74}" presName="rootConnector1" presStyleLbl="node1" presStyleIdx="0" presStyleCnt="0"/>
      <dgm:spPr/>
    </dgm:pt>
    <dgm:pt modelId="{237503AA-4177-490E-B8A2-B80539204015}" type="pres">
      <dgm:prSet presAssocID="{31688A5E-30A9-49BD-994B-25AC5AB56E74}" presName="hierChild2" presStyleCnt="0"/>
      <dgm:spPr/>
    </dgm:pt>
    <dgm:pt modelId="{62A14C36-D479-455A-9507-CC3BCCD55B0D}" type="pres">
      <dgm:prSet presAssocID="{2660473B-D3D8-42BD-867A-4D9E9FCB64BF}" presName="Name37" presStyleLbl="parChTrans1D2" presStyleIdx="0" presStyleCnt="2"/>
      <dgm:spPr/>
    </dgm:pt>
    <dgm:pt modelId="{6BF29344-3472-4062-92F2-EBC1D601CF1C}" type="pres">
      <dgm:prSet presAssocID="{4FDD8D2F-B5A4-4533-AE8C-3E760122E2BE}" presName="hierRoot2" presStyleCnt="0">
        <dgm:presLayoutVars>
          <dgm:hierBranch val="init"/>
        </dgm:presLayoutVars>
      </dgm:prSet>
      <dgm:spPr/>
    </dgm:pt>
    <dgm:pt modelId="{03446544-4BC4-4D7B-84CE-C6A5B0055D61}" type="pres">
      <dgm:prSet presAssocID="{4FDD8D2F-B5A4-4533-AE8C-3E760122E2BE}" presName="rootComposite" presStyleCnt="0"/>
      <dgm:spPr/>
    </dgm:pt>
    <dgm:pt modelId="{B614E74D-97FF-492C-A7CD-9687CE50833D}" type="pres">
      <dgm:prSet presAssocID="{4FDD8D2F-B5A4-4533-AE8C-3E760122E2BE}" presName="rootText" presStyleLbl="node2" presStyleIdx="0" presStyleCnt="2" custScaleX="130879" custScaleY="203156">
        <dgm:presLayoutVars>
          <dgm:chPref val="3"/>
        </dgm:presLayoutVars>
      </dgm:prSet>
      <dgm:spPr/>
    </dgm:pt>
    <dgm:pt modelId="{0AB97237-2697-4DEC-A2D8-73145F7A7B0B}" type="pres">
      <dgm:prSet presAssocID="{4FDD8D2F-B5A4-4533-AE8C-3E760122E2BE}" presName="rootConnector" presStyleLbl="node2" presStyleIdx="0" presStyleCnt="2"/>
      <dgm:spPr/>
    </dgm:pt>
    <dgm:pt modelId="{061ED860-E009-4E44-9658-E9680A8BA136}" type="pres">
      <dgm:prSet presAssocID="{4FDD8D2F-B5A4-4533-AE8C-3E760122E2BE}" presName="hierChild4" presStyleCnt="0"/>
      <dgm:spPr/>
    </dgm:pt>
    <dgm:pt modelId="{1DEC10D0-5853-45FA-965A-47979A03EA27}" type="pres">
      <dgm:prSet presAssocID="{4FDD8D2F-B5A4-4533-AE8C-3E760122E2BE}" presName="hierChild5" presStyleCnt="0"/>
      <dgm:spPr/>
    </dgm:pt>
    <dgm:pt modelId="{2F264F66-3ECF-4507-B058-DCFFE244C0C1}" type="pres">
      <dgm:prSet presAssocID="{5C648393-59D4-456B-92EB-F607D804D188}" presName="Name37" presStyleLbl="parChTrans1D2" presStyleIdx="1" presStyleCnt="2"/>
      <dgm:spPr/>
    </dgm:pt>
    <dgm:pt modelId="{91E10105-16E7-42E0-91D7-D951F3AA6B42}" type="pres">
      <dgm:prSet presAssocID="{56F1A483-0874-4620-9EEA-5C5D25D7A62B}" presName="hierRoot2" presStyleCnt="0">
        <dgm:presLayoutVars>
          <dgm:hierBranch val="init"/>
        </dgm:presLayoutVars>
      </dgm:prSet>
      <dgm:spPr/>
    </dgm:pt>
    <dgm:pt modelId="{E2417622-22F5-45A0-BA5E-2DB2C0B71F3E}" type="pres">
      <dgm:prSet presAssocID="{56F1A483-0874-4620-9EEA-5C5D25D7A62B}" presName="rootComposite" presStyleCnt="0"/>
      <dgm:spPr/>
    </dgm:pt>
    <dgm:pt modelId="{E07103CC-B5AF-4B91-86B0-5C56349C3E00}" type="pres">
      <dgm:prSet presAssocID="{56F1A483-0874-4620-9EEA-5C5D25D7A62B}" presName="rootText" presStyleLbl="node2" presStyleIdx="1" presStyleCnt="2" custScaleX="123934" custScaleY="190854">
        <dgm:presLayoutVars>
          <dgm:chPref val="3"/>
        </dgm:presLayoutVars>
      </dgm:prSet>
      <dgm:spPr/>
    </dgm:pt>
    <dgm:pt modelId="{2938B746-4D38-49B0-B685-AE5E8EE01730}" type="pres">
      <dgm:prSet presAssocID="{56F1A483-0874-4620-9EEA-5C5D25D7A62B}" presName="rootConnector" presStyleLbl="node2" presStyleIdx="1" presStyleCnt="2"/>
      <dgm:spPr/>
    </dgm:pt>
    <dgm:pt modelId="{B9A288BD-CCA6-4D18-81C1-A439B4FB9CB7}" type="pres">
      <dgm:prSet presAssocID="{56F1A483-0874-4620-9EEA-5C5D25D7A62B}" presName="hierChild4" presStyleCnt="0"/>
      <dgm:spPr/>
    </dgm:pt>
    <dgm:pt modelId="{B324175A-9598-42A2-8627-48A3E7F82A9A}" type="pres">
      <dgm:prSet presAssocID="{56F1A483-0874-4620-9EEA-5C5D25D7A62B}" presName="hierChild5" presStyleCnt="0"/>
      <dgm:spPr/>
    </dgm:pt>
    <dgm:pt modelId="{0A096363-2F81-4E6C-8B97-2696F65F95D2}" type="pres">
      <dgm:prSet presAssocID="{31688A5E-30A9-49BD-994B-25AC5AB56E74}" presName="hierChild3" presStyleCnt="0"/>
      <dgm:spPr/>
    </dgm:pt>
  </dgm:ptLst>
  <dgm:cxnLst>
    <dgm:cxn modelId="{9866BD01-6FB1-45DC-86AF-2939B9518A31}" srcId="{31688A5E-30A9-49BD-994B-25AC5AB56E74}" destId="{56F1A483-0874-4620-9EEA-5C5D25D7A62B}" srcOrd="1" destOrd="0" parTransId="{5C648393-59D4-456B-92EB-F607D804D188}" sibTransId="{E77914DD-845D-45EB-B19D-7E8D9D93B524}"/>
    <dgm:cxn modelId="{025A3C11-716F-40B1-B018-BC653B0AF1D0}" type="presOf" srcId="{4FDD8D2F-B5A4-4533-AE8C-3E760122E2BE}" destId="{0AB97237-2697-4DEC-A2D8-73145F7A7B0B}" srcOrd="1" destOrd="0" presId="urn:microsoft.com/office/officeart/2005/8/layout/orgChart1"/>
    <dgm:cxn modelId="{C0F54361-1D40-453F-8B3F-F69CFF9040F9}" type="presOf" srcId="{5C648393-59D4-456B-92EB-F607D804D188}" destId="{2F264F66-3ECF-4507-B058-DCFFE244C0C1}" srcOrd="0" destOrd="0" presId="urn:microsoft.com/office/officeart/2005/8/layout/orgChart1"/>
    <dgm:cxn modelId="{F9479945-22BF-48FE-B999-90AE1C71C817}" type="presOf" srcId="{31688A5E-30A9-49BD-994B-25AC5AB56E74}" destId="{46086170-FE26-4A5B-919D-8E320AB373B6}" srcOrd="1" destOrd="0" presId="urn:microsoft.com/office/officeart/2005/8/layout/orgChart1"/>
    <dgm:cxn modelId="{69D0F265-366C-4F1F-B66B-262D1811EDF3}" type="presOf" srcId="{56F1A483-0874-4620-9EEA-5C5D25D7A62B}" destId="{2938B746-4D38-49B0-B685-AE5E8EE01730}" srcOrd="1" destOrd="0" presId="urn:microsoft.com/office/officeart/2005/8/layout/orgChart1"/>
    <dgm:cxn modelId="{0E23BF55-1665-4024-9B0F-771B8D28ADFE}" srcId="{31688A5E-30A9-49BD-994B-25AC5AB56E74}" destId="{4FDD8D2F-B5A4-4533-AE8C-3E760122E2BE}" srcOrd="0" destOrd="0" parTransId="{2660473B-D3D8-42BD-867A-4D9E9FCB64BF}" sibTransId="{04E8D1E7-DD4B-4885-97A5-515398A00689}"/>
    <dgm:cxn modelId="{DFB7438D-89CE-42DC-8975-47CEB8018E7A}" type="presOf" srcId="{B7F184E7-A0D6-4326-AE8D-DB276203D8E2}" destId="{4E43BD5C-C471-4327-8569-3387605E0203}" srcOrd="0" destOrd="0" presId="urn:microsoft.com/office/officeart/2005/8/layout/orgChart1"/>
    <dgm:cxn modelId="{68C810A2-D80B-4AD7-9229-50508D625D3D}" type="presOf" srcId="{4FDD8D2F-B5A4-4533-AE8C-3E760122E2BE}" destId="{B614E74D-97FF-492C-A7CD-9687CE50833D}" srcOrd="0" destOrd="0" presId="urn:microsoft.com/office/officeart/2005/8/layout/orgChart1"/>
    <dgm:cxn modelId="{CB11E8BB-166E-4562-B5A9-12C2CACFFFFD}" srcId="{B7F184E7-A0D6-4326-AE8D-DB276203D8E2}" destId="{31688A5E-30A9-49BD-994B-25AC5AB56E74}" srcOrd="0" destOrd="0" parTransId="{86CF170A-74DA-42A9-83F1-822F5411EC23}" sibTransId="{E6EE4F7E-8F9F-40BE-8CF3-C021C9198548}"/>
    <dgm:cxn modelId="{AAA843CC-3CD5-4E21-A56C-444D9F7DB5F0}" type="presOf" srcId="{2660473B-D3D8-42BD-867A-4D9E9FCB64BF}" destId="{62A14C36-D479-455A-9507-CC3BCCD55B0D}" srcOrd="0" destOrd="0" presId="urn:microsoft.com/office/officeart/2005/8/layout/orgChart1"/>
    <dgm:cxn modelId="{71498DCC-1F88-41F5-844B-791EBDE162BF}" type="presOf" srcId="{31688A5E-30A9-49BD-994B-25AC5AB56E74}" destId="{E5693AE6-0AEE-43AD-A558-E110544F7ABF}" srcOrd="0" destOrd="0" presId="urn:microsoft.com/office/officeart/2005/8/layout/orgChart1"/>
    <dgm:cxn modelId="{6C36BDCD-4B9B-459D-89D3-4EDA777C5F98}" type="presOf" srcId="{56F1A483-0874-4620-9EEA-5C5D25D7A62B}" destId="{E07103CC-B5AF-4B91-86B0-5C56349C3E00}" srcOrd="0" destOrd="0" presId="urn:microsoft.com/office/officeart/2005/8/layout/orgChart1"/>
    <dgm:cxn modelId="{F4E51FE3-787A-4359-B310-2179E7CA9317}" type="presParOf" srcId="{4E43BD5C-C471-4327-8569-3387605E0203}" destId="{D8A96726-6A1E-45C4-862A-7B1A538BD887}" srcOrd="0" destOrd="0" presId="urn:microsoft.com/office/officeart/2005/8/layout/orgChart1"/>
    <dgm:cxn modelId="{B5FB5B1C-E872-4448-803C-7E6C15C089E5}" type="presParOf" srcId="{D8A96726-6A1E-45C4-862A-7B1A538BD887}" destId="{3BCAA01B-B09A-4278-A54E-497906ACA26E}" srcOrd="0" destOrd="0" presId="urn:microsoft.com/office/officeart/2005/8/layout/orgChart1"/>
    <dgm:cxn modelId="{64D614F0-E1C6-46CA-B630-0DEBF2BD3869}" type="presParOf" srcId="{3BCAA01B-B09A-4278-A54E-497906ACA26E}" destId="{E5693AE6-0AEE-43AD-A558-E110544F7ABF}" srcOrd="0" destOrd="0" presId="urn:microsoft.com/office/officeart/2005/8/layout/orgChart1"/>
    <dgm:cxn modelId="{1A8FBA94-0981-49D4-8B04-680A46ED9E23}" type="presParOf" srcId="{3BCAA01B-B09A-4278-A54E-497906ACA26E}" destId="{46086170-FE26-4A5B-919D-8E320AB373B6}" srcOrd="1" destOrd="0" presId="urn:microsoft.com/office/officeart/2005/8/layout/orgChart1"/>
    <dgm:cxn modelId="{8A64A03F-0B70-4221-93A7-8832E2CCCDE2}" type="presParOf" srcId="{D8A96726-6A1E-45C4-862A-7B1A538BD887}" destId="{237503AA-4177-490E-B8A2-B80539204015}" srcOrd="1" destOrd="0" presId="urn:microsoft.com/office/officeart/2005/8/layout/orgChart1"/>
    <dgm:cxn modelId="{0FDAE4D6-E7A0-4AD1-A8D6-863C689F197C}" type="presParOf" srcId="{237503AA-4177-490E-B8A2-B80539204015}" destId="{62A14C36-D479-455A-9507-CC3BCCD55B0D}" srcOrd="0" destOrd="0" presId="urn:microsoft.com/office/officeart/2005/8/layout/orgChart1"/>
    <dgm:cxn modelId="{FA119A02-91A0-4FAF-8FC9-3CBF5A2F1F0C}" type="presParOf" srcId="{237503AA-4177-490E-B8A2-B80539204015}" destId="{6BF29344-3472-4062-92F2-EBC1D601CF1C}" srcOrd="1" destOrd="0" presId="urn:microsoft.com/office/officeart/2005/8/layout/orgChart1"/>
    <dgm:cxn modelId="{BCAF6882-3724-4347-9835-E871B7D48408}" type="presParOf" srcId="{6BF29344-3472-4062-92F2-EBC1D601CF1C}" destId="{03446544-4BC4-4D7B-84CE-C6A5B0055D61}" srcOrd="0" destOrd="0" presId="urn:microsoft.com/office/officeart/2005/8/layout/orgChart1"/>
    <dgm:cxn modelId="{DF8B5FD9-09CD-4BC4-BA06-35DF8BDE363A}" type="presParOf" srcId="{03446544-4BC4-4D7B-84CE-C6A5B0055D61}" destId="{B614E74D-97FF-492C-A7CD-9687CE50833D}" srcOrd="0" destOrd="0" presId="urn:microsoft.com/office/officeart/2005/8/layout/orgChart1"/>
    <dgm:cxn modelId="{A99F9703-DC99-4CB1-A555-4F2E0C961903}" type="presParOf" srcId="{03446544-4BC4-4D7B-84CE-C6A5B0055D61}" destId="{0AB97237-2697-4DEC-A2D8-73145F7A7B0B}" srcOrd="1" destOrd="0" presId="urn:microsoft.com/office/officeart/2005/8/layout/orgChart1"/>
    <dgm:cxn modelId="{DCC95D06-1EB5-49D4-A4E9-7A8C3048BC45}" type="presParOf" srcId="{6BF29344-3472-4062-92F2-EBC1D601CF1C}" destId="{061ED860-E009-4E44-9658-E9680A8BA136}" srcOrd="1" destOrd="0" presId="urn:microsoft.com/office/officeart/2005/8/layout/orgChart1"/>
    <dgm:cxn modelId="{363A1AE1-A5D1-4BBA-B414-DC7067E96EA0}" type="presParOf" srcId="{6BF29344-3472-4062-92F2-EBC1D601CF1C}" destId="{1DEC10D0-5853-45FA-965A-47979A03EA27}" srcOrd="2" destOrd="0" presId="urn:microsoft.com/office/officeart/2005/8/layout/orgChart1"/>
    <dgm:cxn modelId="{335397C7-D1B3-4EFE-9CC9-D612B20BFD77}" type="presParOf" srcId="{237503AA-4177-490E-B8A2-B80539204015}" destId="{2F264F66-3ECF-4507-B058-DCFFE244C0C1}" srcOrd="2" destOrd="0" presId="urn:microsoft.com/office/officeart/2005/8/layout/orgChart1"/>
    <dgm:cxn modelId="{C4A06619-0768-4E63-B191-3D2257F4F6DB}" type="presParOf" srcId="{237503AA-4177-490E-B8A2-B80539204015}" destId="{91E10105-16E7-42E0-91D7-D951F3AA6B42}" srcOrd="3" destOrd="0" presId="urn:microsoft.com/office/officeart/2005/8/layout/orgChart1"/>
    <dgm:cxn modelId="{8F11DC33-6E0E-4A2A-9CEC-6F16D6E9E5A6}" type="presParOf" srcId="{91E10105-16E7-42E0-91D7-D951F3AA6B42}" destId="{E2417622-22F5-45A0-BA5E-2DB2C0B71F3E}" srcOrd="0" destOrd="0" presId="urn:microsoft.com/office/officeart/2005/8/layout/orgChart1"/>
    <dgm:cxn modelId="{157C3AE7-AAF1-4170-ACE2-A412812FCC1F}" type="presParOf" srcId="{E2417622-22F5-45A0-BA5E-2DB2C0B71F3E}" destId="{E07103CC-B5AF-4B91-86B0-5C56349C3E00}" srcOrd="0" destOrd="0" presId="urn:microsoft.com/office/officeart/2005/8/layout/orgChart1"/>
    <dgm:cxn modelId="{E6E00B60-3BB8-4F5D-978A-753008AE7144}" type="presParOf" srcId="{E2417622-22F5-45A0-BA5E-2DB2C0B71F3E}" destId="{2938B746-4D38-49B0-B685-AE5E8EE01730}" srcOrd="1" destOrd="0" presId="urn:microsoft.com/office/officeart/2005/8/layout/orgChart1"/>
    <dgm:cxn modelId="{A1B1C47C-45BE-4914-9DCD-5A14336AA454}" type="presParOf" srcId="{91E10105-16E7-42E0-91D7-D951F3AA6B42}" destId="{B9A288BD-CCA6-4D18-81C1-A439B4FB9CB7}" srcOrd="1" destOrd="0" presId="urn:microsoft.com/office/officeart/2005/8/layout/orgChart1"/>
    <dgm:cxn modelId="{F7401551-BBAA-4313-B1D0-26B5BA5DF366}" type="presParOf" srcId="{91E10105-16E7-42E0-91D7-D951F3AA6B42}" destId="{B324175A-9598-42A2-8627-48A3E7F82A9A}" srcOrd="2" destOrd="0" presId="urn:microsoft.com/office/officeart/2005/8/layout/orgChart1"/>
    <dgm:cxn modelId="{5DE8C890-FC44-456F-A769-BD1A0E5484AC}" type="presParOf" srcId="{D8A96726-6A1E-45C4-862A-7B1A538BD887}" destId="{0A096363-2F81-4E6C-8B97-2696F65F95D2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3C2B19E1-1AB8-497B-BB19-7A628D14B5E4}" type="doc">
      <dgm:prSet loTypeId="urn:microsoft.com/office/officeart/2005/8/layout/radial1" loCatId="cycle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B4947109-EB6F-40FC-996B-5CA7E5CD75C2}">
      <dgm:prSet phldrT="[Текст]" custT="1"/>
      <dgm:spPr/>
      <dgm:t>
        <a:bodyPr/>
        <a:lstStyle/>
        <a:p>
          <a:r>
            <a:rPr lang="ru-RU" sz="2000" b="1" i="0" dirty="0">
              <a:latin typeface="Times New Roman" panose="02020603050405020304" pitchFamily="18" charset="0"/>
              <a:cs typeface="Times New Roman" panose="02020603050405020304" pitchFamily="18" charset="0"/>
            </a:rPr>
            <a:t>Этапы формирования пространственных представлений</a:t>
          </a:r>
        </a:p>
      </dgm:t>
    </dgm:pt>
    <dgm:pt modelId="{C4061773-5EAA-40E1-BEE6-C9155BCA66D2}" type="parTrans" cxnId="{33176805-9ECB-43A8-8C63-DCE8984545A7}">
      <dgm:prSet/>
      <dgm:spPr/>
      <dgm:t>
        <a:bodyPr/>
        <a:lstStyle/>
        <a:p>
          <a:endParaRPr lang="ru-RU" sz="1600" b="1" i="1">
            <a:latin typeface="Monotype Corsiva" pitchFamily="66" charset="0"/>
          </a:endParaRPr>
        </a:p>
      </dgm:t>
    </dgm:pt>
    <dgm:pt modelId="{79792716-2E6C-4107-8FE5-3AC0C0FEF14C}" type="sibTrans" cxnId="{33176805-9ECB-43A8-8C63-DCE8984545A7}">
      <dgm:prSet/>
      <dgm:spPr/>
      <dgm:t>
        <a:bodyPr/>
        <a:lstStyle/>
        <a:p>
          <a:endParaRPr lang="ru-RU" sz="1600" b="1" i="1">
            <a:latin typeface="Monotype Corsiva" pitchFamily="66" charset="0"/>
          </a:endParaRPr>
        </a:p>
      </dgm:t>
    </dgm:pt>
    <dgm:pt modelId="{E0ED06DA-3F0C-4F62-841D-9C5F3A1D85F5}">
      <dgm:prSet phldrT="[Текст]" custT="1"/>
      <dgm:spPr/>
      <dgm:t>
        <a:bodyPr/>
        <a:lstStyle/>
        <a:p>
          <a:r>
            <a:rPr lang="ru-RU" sz="1600" b="1" i="0" dirty="0">
              <a:latin typeface="Times New Roman" panose="02020603050405020304" pitchFamily="18" charset="0"/>
              <a:cs typeface="Times New Roman" panose="02020603050405020304" pitchFamily="18" charset="0"/>
            </a:rPr>
            <a:t>1-этап </a:t>
          </a:r>
        </a:p>
        <a:p>
          <a:r>
            <a:rPr lang="ru-RU" sz="1600" b="1" i="0" dirty="0">
              <a:latin typeface="Times New Roman" panose="02020603050405020304" pitchFamily="18" charset="0"/>
              <a:cs typeface="Times New Roman" panose="02020603050405020304" pitchFamily="18" charset="0"/>
            </a:rPr>
            <a:t>Точка отсчета «от себя»</a:t>
          </a:r>
        </a:p>
      </dgm:t>
    </dgm:pt>
    <dgm:pt modelId="{34B77602-D607-470A-B8BF-D01F856EE5FC}" type="parTrans" cxnId="{325E792A-F0E9-4EA3-B0A2-9FE971B7FBD4}">
      <dgm:prSet custT="1"/>
      <dgm:spPr/>
      <dgm:t>
        <a:bodyPr/>
        <a:lstStyle/>
        <a:p>
          <a:endParaRPr lang="ru-RU" sz="1600" b="1" i="1">
            <a:latin typeface="Monotype Corsiva" pitchFamily="66" charset="0"/>
          </a:endParaRPr>
        </a:p>
      </dgm:t>
    </dgm:pt>
    <dgm:pt modelId="{989A471A-2825-4A41-A523-C0E30B09CCA5}" type="sibTrans" cxnId="{325E792A-F0E9-4EA3-B0A2-9FE971B7FBD4}">
      <dgm:prSet/>
      <dgm:spPr/>
      <dgm:t>
        <a:bodyPr/>
        <a:lstStyle/>
        <a:p>
          <a:endParaRPr lang="ru-RU" sz="1600" b="1" i="1">
            <a:latin typeface="Monotype Corsiva" pitchFamily="66" charset="0"/>
          </a:endParaRPr>
        </a:p>
      </dgm:t>
    </dgm:pt>
    <dgm:pt modelId="{BD170233-B759-4C5E-B459-ED4CB3A06BDD}">
      <dgm:prSet phldrT="[Текст]" custT="1"/>
      <dgm:spPr/>
      <dgm:t>
        <a:bodyPr/>
        <a:lstStyle/>
        <a:p>
          <a:r>
            <a:rPr lang="ru-RU" sz="1600" b="1" i="0" dirty="0">
              <a:latin typeface="Times New Roman" panose="02020603050405020304" pitchFamily="18" charset="0"/>
              <a:cs typeface="Times New Roman" panose="02020603050405020304" pitchFamily="18" charset="0"/>
            </a:rPr>
            <a:t>2-этап</a:t>
          </a:r>
        </a:p>
        <a:p>
          <a:r>
            <a:rPr lang="ru-RU" sz="1600" b="1" i="0" dirty="0">
              <a:latin typeface="Times New Roman" panose="02020603050405020304" pitchFamily="18" charset="0"/>
              <a:cs typeface="Times New Roman" panose="02020603050405020304" pitchFamily="18" charset="0"/>
            </a:rPr>
            <a:t>Точка отсчета «от предмета»</a:t>
          </a:r>
        </a:p>
      </dgm:t>
    </dgm:pt>
    <dgm:pt modelId="{D2A4CF09-97D2-459A-BE12-38EB845589D8}" type="parTrans" cxnId="{A9009866-A827-4B8F-A2DD-5A623F3DFC87}">
      <dgm:prSet custT="1"/>
      <dgm:spPr/>
      <dgm:t>
        <a:bodyPr/>
        <a:lstStyle/>
        <a:p>
          <a:endParaRPr lang="ru-RU" sz="1600" b="1" i="1">
            <a:latin typeface="Monotype Corsiva" pitchFamily="66" charset="0"/>
          </a:endParaRPr>
        </a:p>
      </dgm:t>
    </dgm:pt>
    <dgm:pt modelId="{9C5BA1AA-E8B4-4F0A-951B-253A7C7B3CA5}" type="sibTrans" cxnId="{A9009866-A827-4B8F-A2DD-5A623F3DFC87}">
      <dgm:prSet/>
      <dgm:spPr/>
      <dgm:t>
        <a:bodyPr/>
        <a:lstStyle/>
        <a:p>
          <a:endParaRPr lang="ru-RU" sz="1600" b="1" i="1">
            <a:latin typeface="Monotype Corsiva" pitchFamily="66" charset="0"/>
          </a:endParaRPr>
        </a:p>
      </dgm:t>
    </dgm:pt>
    <dgm:pt modelId="{29F67263-A1F9-4BF5-91DF-D0F18A47C5E4}">
      <dgm:prSet phldrT="[Текст]" custT="1"/>
      <dgm:spPr/>
      <dgm:t>
        <a:bodyPr/>
        <a:lstStyle/>
        <a:p>
          <a:r>
            <a:rPr lang="ru-RU" sz="1600" b="1" i="0" dirty="0">
              <a:latin typeface="Times New Roman" panose="02020603050405020304" pitchFamily="18" charset="0"/>
              <a:cs typeface="Times New Roman" panose="02020603050405020304" pitchFamily="18" charset="0"/>
            </a:rPr>
            <a:t>3-этап</a:t>
          </a:r>
        </a:p>
        <a:p>
          <a:r>
            <a:rPr lang="ru-RU" sz="1600" b="1" i="0" dirty="0">
              <a:latin typeface="Times New Roman" panose="02020603050405020304" pitchFamily="18" charset="0"/>
              <a:cs typeface="Times New Roman" panose="02020603050405020304" pitchFamily="18" charset="0"/>
            </a:rPr>
            <a:t>Определять словом положение предмета</a:t>
          </a:r>
        </a:p>
      </dgm:t>
    </dgm:pt>
    <dgm:pt modelId="{BDC5E7CA-2668-4ABD-A23B-580B8A98FCCC}" type="parTrans" cxnId="{C23B4A1A-D18C-4FAC-B143-6BBDBCDAE1E5}">
      <dgm:prSet custT="1"/>
      <dgm:spPr/>
      <dgm:t>
        <a:bodyPr/>
        <a:lstStyle/>
        <a:p>
          <a:endParaRPr lang="ru-RU" sz="1600" b="1" i="1">
            <a:latin typeface="Monotype Corsiva" pitchFamily="66" charset="0"/>
          </a:endParaRPr>
        </a:p>
      </dgm:t>
    </dgm:pt>
    <dgm:pt modelId="{277A9FFE-0DFD-4AC4-813C-8310159EE59D}" type="sibTrans" cxnId="{C23B4A1A-D18C-4FAC-B143-6BBDBCDAE1E5}">
      <dgm:prSet/>
      <dgm:spPr/>
      <dgm:t>
        <a:bodyPr/>
        <a:lstStyle/>
        <a:p>
          <a:endParaRPr lang="ru-RU" sz="1600" b="1" i="1">
            <a:latin typeface="Monotype Corsiva" pitchFamily="66" charset="0"/>
          </a:endParaRPr>
        </a:p>
      </dgm:t>
    </dgm:pt>
    <dgm:pt modelId="{522A4622-F040-4CD5-8819-7910C173E02E}">
      <dgm:prSet phldrT="[Текст]" custT="1"/>
      <dgm:spPr/>
      <dgm:t>
        <a:bodyPr/>
        <a:lstStyle/>
        <a:p>
          <a:r>
            <a:rPr lang="ru-RU" sz="1600" b="1" i="0" dirty="0">
              <a:latin typeface="Times New Roman" panose="02020603050405020304" pitchFamily="18" charset="0"/>
              <a:cs typeface="Times New Roman" panose="02020603050405020304" pitchFamily="18" charset="0"/>
            </a:rPr>
            <a:t>5-этап</a:t>
          </a:r>
        </a:p>
        <a:p>
          <a:r>
            <a:rPr lang="ru-RU" sz="1600" b="1" i="0" dirty="0">
              <a:latin typeface="Times New Roman" panose="02020603050405020304" pitchFamily="18" charset="0"/>
              <a:cs typeface="Times New Roman" panose="02020603050405020304" pitchFamily="18" charset="0"/>
            </a:rPr>
            <a:t>Ориентировка на плоскости в 2-мерном пространстве</a:t>
          </a:r>
        </a:p>
      </dgm:t>
    </dgm:pt>
    <dgm:pt modelId="{C545CE10-737C-41BC-9851-85A598F82F27}" type="parTrans" cxnId="{CD198108-0BA5-4B8B-A289-9E750B300931}">
      <dgm:prSet custT="1"/>
      <dgm:spPr/>
      <dgm:t>
        <a:bodyPr/>
        <a:lstStyle/>
        <a:p>
          <a:endParaRPr lang="ru-RU" sz="1600" b="1" i="1">
            <a:latin typeface="Monotype Corsiva" pitchFamily="66" charset="0"/>
          </a:endParaRPr>
        </a:p>
      </dgm:t>
    </dgm:pt>
    <dgm:pt modelId="{D12377DD-B95B-465D-977A-4A051E294C2F}" type="sibTrans" cxnId="{CD198108-0BA5-4B8B-A289-9E750B300931}">
      <dgm:prSet/>
      <dgm:spPr/>
      <dgm:t>
        <a:bodyPr/>
        <a:lstStyle/>
        <a:p>
          <a:endParaRPr lang="ru-RU" sz="1600" b="1" i="1">
            <a:latin typeface="Monotype Corsiva" pitchFamily="66" charset="0"/>
          </a:endParaRPr>
        </a:p>
      </dgm:t>
    </dgm:pt>
    <dgm:pt modelId="{05CE7E37-9B7B-487D-BB7F-6F6542F58AA8}">
      <dgm:prSet custT="1"/>
      <dgm:spPr/>
      <dgm:t>
        <a:bodyPr/>
        <a:lstStyle/>
        <a:p>
          <a:r>
            <a:rPr lang="ru-RU" sz="1600" b="1" i="0" dirty="0">
              <a:latin typeface="Times New Roman" panose="02020603050405020304" pitchFamily="18" charset="0"/>
              <a:cs typeface="Times New Roman" panose="02020603050405020304" pitchFamily="18" charset="0"/>
            </a:rPr>
            <a:t>4-этап</a:t>
          </a:r>
        </a:p>
        <a:p>
          <a:r>
            <a:rPr lang="ru-RU" sz="1600" b="1" i="0" dirty="0">
              <a:latin typeface="Times New Roman" panose="02020603050405020304" pitchFamily="18" charset="0"/>
              <a:cs typeface="Times New Roman" panose="02020603050405020304" pitchFamily="18" charset="0"/>
            </a:rPr>
            <a:t>Ориентироваться в 3-мерном пространстве в движении</a:t>
          </a:r>
        </a:p>
      </dgm:t>
    </dgm:pt>
    <dgm:pt modelId="{60B318FE-7DFA-43F8-A774-6527D863BDE2}" type="parTrans" cxnId="{B4CF53A3-0050-486A-B33D-806AF9B8D027}">
      <dgm:prSet custT="1"/>
      <dgm:spPr/>
      <dgm:t>
        <a:bodyPr/>
        <a:lstStyle/>
        <a:p>
          <a:endParaRPr lang="ru-RU" sz="1600" b="1" i="1">
            <a:latin typeface="Monotype Corsiva" pitchFamily="66" charset="0"/>
          </a:endParaRPr>
        </a:p>
      </dgm:t>
    </dgm:pt>
    <dgm:pt modelId="{014BB937-BC22-42BA-9601-F7C738346BD7}" type="sibTrans" cxnId="{B4CF53A3-0050-486A-B33D-806AF9B8D027}">
      <dgm:prSet/>
      <dgm:spPr/>
      <dgm:t>
        <a:bodyPr/>
        <a:lstStyle/>
        <a:p>
          <a:endParaRPr lang="ru-RU" sz="1600" b="1" i="1">
            <a:latin typeface="Monotype Corsiva" pitchFamily="66" charset="0"/>
          </a:endParaRPr>
        </a:p>
      </dgm:t>
    </dgm:pt>
    <dgm:pt modelId="{7BC574DB-74E3-4025-8D5A-E2C9C68488E0}" type="pres">
      <dgm:prSet presAssocID="{3C2B19E1-1AB8-497B-BB19-7A628D14B5E4}" presName="cycle" presStyleCnt="0">
        <dgm:presLayoutVars>
          <dgm:chMax val="1"/>
          <dgm:dir/>
          <dgm:animLvl val="ctr"/>
          <dgm:resizeHandles val="exact"/>
        </dgm:presLayoutVars>
      </dgm:prSet>
      <dgm:spPr/>
    </dgm:pt>
    <dgm:pt modelId="{6622D8F6-6BA6-44C4-8259-70372844157C}" type="pres">
      <dgm:prSet presAssocID="{B4947109-EB6F-40FC-996B-5CA7E5CD75C2}" presName="centerShape" presStyleLbl="node0" presStyleIdx="0" presStyleCnt="1" custScaleX="166454" custScaleY="146410"/>
      <dgm:spPr/>
    </dgm:pt>
    <dgm:pt modelId="{0E304235-1FC1-4AB9-826E-46FF084CDF36}" type="pres">
      <dgm:prSet presAssocID="{34B77602-D607-470A-B8BF-D01F856EE5FC}" presName="Name9" presStyleLbl="parChTrans1D2" presStyleIdx="0" presStyleCnt="5"/>
      <dgm:spPr/>
    </dgm:pt>
    <dgm:pt modelId="{5AB10097-DE85-4D4F-859D-A322C30DAF03}" type="pres">
      <dgm:prSet presAssocID="{34B77602-D607-470A-B8BF-D01F856EE5FC}" presName="connTx" presStyleLbl="parChTrans1D2" presStyleIdx="0" presStyleCnt="5"/>
      <dgm:spPr/>
    </dgm:pt>
    <dgm:pt modelId="{EDB60E36-8646-443B-BA57-64EA671696EC}" type="pres">
      <dgm:prSet presAssocID="{E0ED06DA-3F0C-4F62-841D-9C5F3A1D85F5}" presName="node" presStyleLbl="node1" presStyleIdx="0" presStyleCnt="5" custScaleX="135324" custScaleY="110000">
        <dgm:presLayoutVars>
          <dgm:bulletEnabled val="1"/>
        </dgm:presLayoutVars>
      </dgm:prSet>
      <dgm:spPr/>
    </dgm:pt>
    <dgm:pt modelId="{C8B394B8-F866-477F-AC19-A183FA50BEFA}" type="pres">
      <dgm:prSet presAssocID="{D2A4CF09-97D2-459A-BE12-38EB845589D8}" presName="Name9" presStyleLbl="parChTrans1D2" presStyleIdx="1" presStyleCnt="5"/>
      <dgm:spPr/>
    </dgm:pt>
    <dgm:pt modelId="{2AC74AA0-A140-46A1-8B02-119671BFF84B}" type="pres">
      <dgm:prSet presAssocID="{D2A4CF09-97D2-459A-BE12-38EB845589D8}" presName="connTx" presStyleLbl="parChTrans1D2" presStyleIdx="1" presStyleCnt="5"/>
      <dgm:spPr/>
    </dgm:pt>
    <dgm:pt modelId="{8414B28A-6A11-4CE3-BA94-92953472A2E4}" type="pres">
      <dgm:prSet presAssocID="{BD170233-B759-4C5E-B459-ED4CB3A06BDD}" presName="node" presStyleLbl="node1" presStyleIdx="1" presStyleCnt="5" custScaleX="128045" custScaleY="110000" custRadScaleRad="155697" custRadScaleInc="-16343">
        <dgm:presLayoutVars>
          <dgm:bulletEnabled val="1"/>
        </dgm:presLayoutVars>
      </dgm:prSet>
      <dgm:spPr/>
    </dgm:pt>
    <dgm:pt modelId="{11027091-14C8-4538-ACA8-B3EF69D89629}" type="pres">
      <dgm:prSet presAssocID="{BDC5E7CA-2668-4ABD-A23B-580B8A98FCCC}" presName="Name9" presStyleLbl="parChTrans1D2" presStyleIdx="2" presStyleCnt="5"/>
      <dgm:spPr/>
    </dgm:pt>
    <dgm:pt modelId="{7B65A01D-2D6E-44E0-B304-0068AA0C8715}" type="pres">
      <dgm:prSet presAssocID="{BDC5E7CA-2668-4ABD-A23B-580B8A98FCCC}" presName="connTx" presStyleLbl="parChTrans1D2" presStyleIdx="2" presStyleCnt="5"/>
      <dgm:spPr/>
    </dgm:pt>
    <dgm:pt modelId="{FAE2AF35-1EC9-4DAF-B0A3-E4DCFB7ED7A8}" type="pres">
      <dgm:prSet presAssocID="{29F67263-A1F9-4BF5-91DF-D0F18A47C5E4}" presName="node" presStyleLbl="node1" presStyleIdx="2" presStyleCnt="5" custScaleX="130813" custScaleY="110000" custRadScaleRad="116791" custRadScaleInc="-49315">
        <dgm:presLayoutVars>
          <dgm:bulletEnabled val="1"/>
        </dgm:presLayoutVars>
      </dgm:prSet>
      <dgm:spPr/>
    </dgm:pt>
    <dgm:pt modelId="{8EFEBAF8-2015-4C0D-AB82-58CCFD22EB00}" type="pres">
      <dgm:prSet presAssocID="{60B318FE-7DFA-43F8-A774-6527D863BDE2}" presName="Name9" presStyleLbl="parChTrans1D2" presStyleIdx="3" presStyleCnt="5"/>
      <dgm:spPr/>
    </dgm:pt>
    <dgm:pt modelId="{5B57B42B-1DBF-4E68-8415-7ECC5629F729}" type="pres">
      <dgm:prSet presAssocID="{60B318FE-7DFA-43F8-A774-6527D863BDE2}" presName="connTx" presStyleLbl="parChTrans1D2" presStyleIdx="3" presStyleCnt="5"/>
      <dgm:spPr/>
    </dgm:pt>
    <dgm:pt modelId="{81439449-986B-43F4-B4FC-12FEFFBCD47B}" type="pres">
      <dgm:prSet presAssocID="{05CE7E37-9B7B-487D-BB7F-6F6542F58AA8}" presName="node" presStyleLbl="node1" presStyleIdx="3" presStyleCnt="5" custScaleX="130815" custScaleY="110000" custRadScaleRad="113681" custRadScaleInc="52119">
        <dgm:presLayoutVars>
          <dgm:bulletEnabled val="1"/>
        </dgm:presLayoutVars>
      </dgm:prSet>
      <dgm:spPr/>
    </dgm:pt>
    <dgm:pt modelId="{AF0E6D0D-16F6-455B-AB9C-0B67F6F0D652}" type="pres">
      <dgm:prSet presAssocID="{C545CE10-737C-41BC-9851-85A598F82F27}" presName="Name9" presStyleLbl="parChTrans1D2" presStyleIdx="4" presStyleCnt="5"/>
      <dgm:spPr/>
    </dgm:pt>
    <dgm:pt modelId="{7779A5EB-C703-4EE5-86A6-15D224DECE42}" type="pres">
      <dgm:prSet presAssocID="{C545CE10-737C-41BC-9851-85A598F82F27}" presName="connTx" presStyleLbl="parChTrans1D2" presStyleIdx="4" presStyleCnt="5"/>
      <dgm:spPr/>
    </dgm:pt>
    <dgm:pt modelId="{87A4412B-237C-4A2D-8638-BFD26AFB8ABF}" type="pres">
      <dgm:prSet presAssocID="{522A4622-F040-4CD5-8819-7910C173E02E}" presName="node" presStyleLbl="node1" presStyleIdx="4" presStyleCnt="5" custScaleX="133584" custScaleY="110000" custRadScaleRad="144196" custRadScaleInc="17752">
        <dgm:presLayoutVars>
          <dgm:bulletEnabled val="1"/>
        </dgm:presLayoutVars>
      </dgm:prSet>
      <dgm:spPr/>
    </dgm:pt>
  </dgm:ptLst>
  <dgm:cxnLst>
    <dgm:cxn modelId="{33176805-9ECB-43A8-8C63-DCE8984545A7}" srcId="{3C2B19E1-1AB8-497B-BB19-7A628D14B5E4}" destId="{B4947109-EB6F-40FC-996B-5CA7E5CD75C2}" srcOrd="0" destOrd="0" parTransId="{C4061773-5EAA-40E1-BEE6-C9155BCA66D2}" sibTransId="{79792716-2E6C-4107-8FE5-3AC0C0FEF14C}"/>
    <dgm:cxn modelId="{E4C87107-9DB5-40A7-8B0D-4CD07DCE0629}" type="presOf" srcId="{C545CE10-737C-41BC-9851-85A598F82F27}" destId="{7779A5EB-C703-4EE5-86A6-15D224DECE42}" srcOrd="1" destOrd="0" presId="urn:microsoft.com/office/officeart/2005/8/layout/radial1"/>
    <dgm:cxn modelId="{CD198108-0BA5-4B8B-A289-9E750B300931}" srcId="{B4947109-EB6F-40FC-996B-5CA7E5CD75C2}" destId="{522A4622-F040-4CD5-8819-7910C173E02E}" srcOrd="4" destOrd="0" parTransId="{C545CE10-737C-41BC-9851-85A598F82F27}" sibTransId="{D12377DD-B95B-465D-977A-4A051E294C2F}"/>
    <dgm:cxn modelId="{8B06E30F-2E19-454F-BF05-9D34523BC7F3}" type="presOf" srcId="{BDC5E7CA-2668-4ABD-A23B-580B8A98FCCC}" destId="{11027091-14C8-4538-ACA8-B3EF69D89629}" srcOrd="0" destOrd="0" presId="urn:microsoft.com/office/officeart/2005/8/layout/radial1"/>
    <dgm:cxn modelId="{C23B4A1A-D18C-4FAC-B143-6BBDBCDAE1E5}" srcId="{B4947109-EB6F-40FC-996B-5CA7E5CD75C2}" destId="{29F67263-A1F9-4BF5-91DF-D0F18A47C5E4}" srcOrd="2" destOrd="0" parTransId="{BDC5E7CA-2668-4ABD-A23B-580B8A98FCCC}" sibTransId="{277A9FFE-0DFD-4AC4-813C-8310159EE59D}"/>
    <dgm:cxn modelId="{041B191C-5983-4FA7-8C12-2465F3B7CB40}" type="presOf" srcId="{BDC5E7CA-2668-4ABD-A23B-580B8A98FCCC}" destId="{7B65A01D-2D6E-44E0-B304-0068AA0C8715}" srcOrd="1" destOrd="0" presId="urn:microsoft.com/office/officeart/2005/8/layout/radial1"/>
    <dgm:cxn modelId="{A2DBB51E-F7D4-4B02-A463-988881F725D7}" type="presOf" srcId="{D2A4CF09-97D2-459A-BE12-38EB845589D8}" destId="{C8B394B8-F866-477F-AC19-A183FA50BEFA}" srcOrd="0" destOrd="0" presId="urn:microsoft.com/office/officeart/2005/8/layout/radial1"/>
    <dgm:cxn modelId="{325E792A-F0E9-4EA3-B0A2-9FE971B7FBD4}" srcId="{B4947109-EB6F-40FC-996B-5CA7E5CD75C2}" destId="{E0ED06DA-3F0C-4F62-841D-9C5F3A1D85F5}" srcOrd="0" destOrd="0" parTransId="{34B77602-D607-470A-B8BF-D01F856EE5FC}" sibTransId="{989A471A-2825-4A41-A523-C0E30B09CCA5}"/>
    <dgm:cxn modelId="{D288542E-BEFB-4F27-A8DD-F4EF40352366}" type="presOf" srcId="{34B77602-D607-470A-B8BF-D01F856EE5FC}" destId="{0E304235-1FC1-4AB9-826E-46FF084CDF36}" srcOrd="0" destOrd="0" presId="urn:microsoft.com/office/officeart/2005/8/layout/radial1"/>
    <dgm:cxn modelId="{C23B0244-C36F-4204-AB40-2ECFB9D864B9}" type="presOf" srcId="{522A4622-F040-4CD5-8819-7910C173E02E}" destId="{87A4412B-237C-4A2D-8638-BFD26AFB8ABF}" srcOrd="0" destOrd="0" presId="urn:microsoft.com/office/officeart/2005/8/layout/radial1"/>
    <dgm:cxn modelId="{A9009866-A827-4B8F-A2DD-5A623F3DFC87}" srcId="{B4947109-EB6F-40FC-996B-5CA7E5CD75C2}" destId="{BD170233-B759-4C5E-B459-ED4CB3A06BDD}" srcOrd="1" destOrd="0" parTransId="{D2A4CF09-97D2-459A-BE12-38EB845589D8}" sibTransId="{9C5BA1AA-E8B4-4F0A-951B-253A7C7B3CA5}"/>
    <dgm:cxn modelId="{E4A9F850-0BD4-485C-979F-E8F695E8F707}" type="presOf" srcId="{E0ED06DA-3F0C-4F62-841D-9C5F3A1D85F5}" destId="{EDB60E36-8646-443B-BA57-64EA671696EC}" srcOrd="0" destOrd="0" presId="urn:microsoft.com/office/officeart/2005/8/layout/radial1"/>
    <dgm:cxn modelId="{52E42573-417F-4595-A31F-E8EDCB066F84}" type="presOf" srcId="{3C2B19E1-1AB8-497B-BB19-7A628D14B5E4}" destId="{7BC574DB-74E3-4025-8D5A-E2C9C68488E0}" srcOrd="0" destOrd="0" presId="urn:microsoft.com/office/officeart/2005/8/layout/radial1"/>
    <dgm:cxn modelId="{4EA9B774-19F5-46FB-8C0E-EADAA5C24817}" type="presOf" srcId="{29F67263-A1F9-4BF5-91DF-D0F18A47C5E4}" destId="{FAE2AF35-1EC9-4DAF-B0A3-E4DCFB7ED7A8}" srcOrd="0" destOrd="0" presId="urn:microsoft.com/office/officeart/2005/8/layout/radial1"/>
    <dgm:cxn modelId="{2DC73F56-C36C-41A6-A91A-3EBED8392FF7}" type="presOf" srcId="{60B318FE-7DFA-43F8-A774-6527D863BDE2}" destId="{8EFEBAF8-2015-4C0D-AB82-58CCFD22EB00}" srcOrd="0" destOrd="0" presId="urn:microsoft.com/office/officeart/2005/8/layout/radial1"/>
    <dgm:cxn modelId="{7F8356A0-D0BF-49DB-B875-35AD12D22E7E}" type="presOf" srcId="{B4947109-EB6F-40FC-996B-5CA7E5CD75C2}" destId="{6622D8F6-6BA6-44C4-8259-70372844157C}" srcOrd="0" destOrd="0" presId="urn:microsoft.com/office/officeart/2005/8/layout/radial1"/>
    <dgm:cxn modelId="{B4CF53A3-0050-486A-B33D-806AF9B8D027}" srcId="{B4947109-EB6F-40FC-996B-5CA7E5CD75C2}" destId="{05CE7E37-9B7B-487D-BB7F-6F6542F58AA8}" srcOrd="3" destOrd="0" parTransId="{60B318FE-7DFA-43F8-A774-6527D863BDE2}" sibTransId="{014BB937-BC22-42BA-9601-F7C738346BD7}"/>
    <dgm:cxn modelId="{3A9EDBA8-5E71-4ACD-8694-AFBC5405B9D2}" type="presOf" srcId="{05CE7E37-9B7B-487D-BB7F-6F6542F58AA8}" destId="{81439449-986B-43F4-B4FC-12FEFFBCD47B}" srcOrd="0" destOrd="0" presId="urn:microsoft.com/office/officeart/2005/8/layout/radial1"/>
    <dgm:cxn modelId="{6295B0B1-0C4E-4470-B671-8796BD356348}" type="presOf" srcId="{D2A4CF09-97D2-459A-BE12-38EB845589D8}" destId="{2AC74AA0-A140-46A1-8B02-119671BFF84B}" srcOrd="1" destOrd="0" presId="urn:microsoft.com/office/officeart/2005/8/layout/radial1"/>
    <dgm:cxn modelId="{25D279DA-07EA-41AC-AB14-5D5C6EF18AD6}" type="presOf" srcId="{BD170233-B759-4C5E-B459-ED4CB3A06BDD}" destId="{8414B28A-6A11-4CE3-BA94-92953472A2E4}" srcOrd="0" destOrd="0" presId="urn:microsoft.com/office/officeart/2005/8/layout/radial1"/>
    <dgm:cxn modelId="{87C420DD-006B-4D31-AE1C-5F5CE82FDC81}" type="presOf" srcId="{34B77602-D607-470A-B8BF-D01F856EE5FC}" destId="{5AB10097-DE85-4D4F-859D-A322C30DAF03}" srcOrd="1" destOrd="0" presId="urn:microsoft.com/office/officeart/2005/8/layout/radial1"/>
    <dgm:cxn modelId="{02D7E1E9-535B-4D04-A8F9-27DA4F7D78F2}" type="presOf" srcId="{C545CE10-737C-41BC-9851-85A598F82F27}" destId="{AF0E6D0D-16F6-455B-AB9C-0B67F6F0D652}" srcOrd="0" destOrd="0" presId="urn:microsoft.com/office/officeart/2005/8/layout/radial1"/>
    <dgm:cxn modelId="{0C6E40EC-2744-42CA-B0D1-CE0FE34BCF0D}" type="presOf" srcId="{60B318FE-7DFA-43F8-A774-6527D863BDE2}" destId="{5B57B42B-1DBF-4E68-8415-7ECC5629F729}" srcOrd="1" destOrd="0" presId="urn:microsoft.com/office/officeart/2005/8/layout/radial1"/>
    <dgm:cxn modelId="{783BD7AC-2021-448F-9638-294EA0F8B05A}" type="presParOf" srcId="{7BC574DB-74E3-4025-8D5A-E2C9C68488E0}" destId="{6622D8F6-6BA6-44C4-8259-70372844157C}" srcOrd="0" destOrd="0" presId="urn:microsoft.com/office/officeart/2005/8/layout/radial1"/>
    <dgm:cxn modelId="{9511F93A-5BEA-4EE1-B2CB-6DBC202E669F}" type="presParOf" srcId="{7BC574DB-74E3-4025-8D5A-E2C9C68488E0}" destId="{0E304235-1FC1-4AB9-826E-46FF084CDF36}" srcOrd="1" destOrd="0" presId="urn:microsoft.com/office/officeart/2005/8/layout/radial1"/>
    <dgm:cxn modelId="{31350504-4574-4FD4-93E0-F94FB23BDBFB}" type="presParOf" srcId="{0E304235-1FC1-4AB9-826E-46FF084CDF36}" destId="{5AB10097-DE85-4D4F-859D-A322C30DAF03}" srcOrd="0" destOrd="0" presId="urn:microsoft.com/office/officeart/2005/8/layout/radial1"/>
    <dgm:cxn modelId="{EC6D01F0-5F0D-4BE3-8160-77695123C61A}" type="presParOf" srcId="{7BC574DB-74E3-4025-8D5A-E2C9C68488E0}" destId="{EDB60E36-8646-443B-BA57-64EA671696EC}" srcOrd="2" destOrd="0" presId="urn:microsoft.com/office/officeart/2005/8/layout/radial1"/>
    <dgm:cxn modelId="{C2B70164-D4AF-41C8-8147-E513E5601893}" type="presParOf" srcId="{7BC574DB-74E3-4025-8D5A-E2C9C68488E0}" destId="{C8B394B8-F866-477F-AC19-A183FA50BEFA}" srcOrd="3" destOrd="0" presId="urn:microsoft.com/office/officeart/2005/8/layout/radial1"/>
    <dgm:cxn modelId="{AAF395A0-C911-4D18-8B2A-29965EE8004C}" type="presParOf" srcId="{C8B394B8-F866-477F-AC19-A183FA50BEFA}" destId="{2AC74AA0-A140-46A1-8B02-119671BFF84B}" srcOrd="0" destOrd="0" presId="urn:microsoft.com/office/officeart/2005/8/layout/radial1"/>
    <dgm:cxn modelId="{5798CABA-3E75-4973-B76E-73A8222A2428}" type="presParOf" srcId="{7BC574DB-74E3-4025-8D5A-E2C9C68488E0}" destId="{8414B28A-6A11-4CE3-BA94-92953472A2E4}" srcOrd="4" destOrd="0" presId="urn:microsoft.com/office/officeart/2005/8/layout/radial1"/>
    <dgm:cxn modelId="{14911B17-005F-4621-93F2-C443B9697682}" type="presParOf" srcId="{7BC574DB-74E3-4025-8D5A-E2C9C68488E0}" destId="{11027091-14C8-4538-ACA8-B3EF69D89629}" srcOrd="5" destOrd="0" presId="urn:microsoft.com/office/officeart/2005/8/layout/radial1"/>
    <dgm:cxn modelId="{A9BA6C13-AF6A-4819-9853-423E012F7D21}" type="presParOf" srcId="{11027091-14C8-4538-ACA8-B3EF69D89629}" destId="{7B65A01D-2D6E-44E0-B304-0068AA0C8715}" srcOrd="0" destOrd="0" presId="urn:microsoft.com/office/officeart/2005/8/layout/radial1"/>
    <dgm:cxn modelId="{2E2AA419-E764-4E11-A76C-C75CD77B7B86}" type="presParOf" srcId="{7BC574DB-74E3-4025-8D5A-E2C9C68488E0}" destId="{FAE2AF35-1EC9-4DAF-B0A3-E4DCFB7ED7A8}" srcOrd="6" destOrd="0" presId="urn:microsoft.com/office/officeart/2005/8/layout/radial1"/>
    <dgm:cxn modelId="{B54C1A71-82F5-4774-B0B0-10AAF54B2397}" type="presParOf" srcId="{7BC574DB-74E3-4025-8D5A-E2C9C68488E0}" destId="{8EFEBAF8-2015-4C0D-AB82-58CCFD22EB00}" srcOrd="7" destOrd="0" presId="urn:microsoft.com/office/officeart/2005/8/layout/radial1"/>
    <dgm:cxn modelId="{3D39D81D-3F33-4C9E-B95E-E1237CAEB2B3}" type="presParOf" srcId="{8EFEBAF8-2015-4C0D-AB82-58CCFD22EB00}" destId="{5B57B42B-1DBF-4E68-8415-7ECC5629F729}" srcOrd="0" destOrd="0" presId="urn:microsoft.com/office/officeart/2005/8/layout/radial1"/>
    <dgm:cxn modelId="{04883E4E-8663-430A-8A49-C053AD1446BD}" type="presParOf" srcId="{7BC574DB-74E3-4025-8D5A-E2C9C68488E0}" destId="{81439449-986B-43F4-B4FC-12FEFFBCD47B}" srcOrd="8" destOrd="0" presId="urn:microsoft.com/office/officeart/2005/8/layout/radial1"/>
    <dgm:cxn modelId="{7E932608-4ECD-467A-B96E-85B1E7D8C762}" type="presParOf" srcId="{7BC574DB-74E3-4025-8D5A-E2C9C68488E0}" destId="{AF0E6D0D-16F6-455B-AB9C-0B67F6F0D652}" srcOrd="9" destOrd="0" presId="urn:microsoft.com/office/officeart/2005/8/layout/radial1"/>
    <dgm:cxn modelId="{A840F794-4D47-41C1-9858-F32DE6DC9372}" type="presParOf" srcId="{AF0E6D0D-16F6-455B-AB9C-0B67F6F0D652}" destId="{7779A5EB-C703-4EE5-86A6-15D224DECE42}" srcOrd="0" destOrd="0" presId="urn:microsoft.com/office/officeart/2005/8/layout/radial1"/>
    <dgm:cxn modelId="{EE900B94-D3EA-4C9D-986D-DC7EFC974EC2}" type="presParOf" srcId="{7BC574DB-74E3-4025-8D5A-E2C9C68488E0}" destId="{87A4412B-237C-4A2D-8638-BFD26AFB8ABF}" srcOrd="10" destOrd="0" presId="urn:microsoft.com/office/officeart/2005/8/layout/radial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D9F17122-078A-43AA-B7D5-1117D0230DAC}">
      <dsp:nvSpPr>
        <dsp:cNvPr id="0" name=""/>
        <dsp:cNvSpPr/>
      </dsp:nvSpPr>
      <dsp:spPr>
        <a:xfrm>
          <a:off x="4250531" y="2779630"/>
          <a:ext cx="2328141" cy="79510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391398"/>
              </a:lnTo>
              <a:lnTo>
                <a:pt x="2328141" y="391398"/>
              </a:lnTo>
              <a:lnTo>
                <a:pt x="2328141" y="795100"/>
              </a:lnTo>
            </a:path>
          </a:pathLst>
        </a:custGeom>
        <a:noFill/>
        <a:ln w="25400" cap="flat" cmpd="sng" algn="ctr">
          <a:solidFill>
            <a:schemeClr val="accent3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6FE1F234-12BA-4FB3-A7AB-AA751ED768B8}">
      <dsp:nvSpPr>
        <dsp:cNvPr id="0" name=""/>
        <dsp:cNvSpPr/>
      </dsp:nvSpPr>
      <dsp:spPr>
        <a:xfrm>
          <a:off x="1924439" y="2779630"/>
          <a:ext cx="2326091" cy="803039"/>
        </a:xfrm>
        <a:custGeom>
          <a:avLst/>
          <a:gdLst/>
          <a:ahLst/>
          <a:cxnLst/>
          <a:rect l="0" t="0" r="0" b="0"/>
          <a:pathLst>
            <a:path>
              <a:moveTo>
                <a:pt x="2326091" y="0"/>
              </a:moveTo>
              <a:lnTo>
                <a:pt x="2326091" y="399338"/>
              </a:lnTo>
              <a:lnTo>
                <a:pt x="0" y="399338"/>
              </a:lnTo>
              <a:lnTo>
                <a:pt x="0" y="803039"/>
              </a:lnTo>
            </a:path>
          </a:pathLst>
        </a:custGeom>
        <a:noFill/>
        <a:ln w="25400" cap="flat" cmpd="sng" algn="ctr">
          <a:solidFill>
            <a:schemeClr val="accent3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6A694F-3E22-479F-B04C-4E69648DA780}">
      <dsp:nvSpPr>
        <dsp:cNvPr id="0" name=""/>
        <dsp:cNvSpPr/>
      </dsp:nvSpPr>
      <dsp:spPr>
        <a:xfrm>
          <a:off x="1000096" y="857240"/>
          <a:ext cx="6500868" cy="1922389"/>
        </a:xfrm>
        <a:prstGeom prst="rect">
          <a:avLst/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6035" tIns="26035" rIns="26035" bIns="26035" numCol="1" spcCol="1270" anchor="ctr" anchorCtr="0">
          <a:noAutofit/>
        </a:bodyPr>
        <a:lstStyle/>
        <a:p>
          <a:pPr marL="0" lvl="0" indent="0" algn="ctr" defTabSz="18224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4100" b="1" kern="1200" dirty="0">
              <a:solidFill>
                <a:schemeClr val="tx1"/>
              </a:solidFill>
              <a:effectLst>
                <a:glow rad="139700">
                  <a:schemeClr val="accent3">
                    <a:satMod val="175000"/>
                    <a:alpha val="40000"/>
                  </a:schemeClr>
                </a:glow>
              </a:effectLst>
              <a:latin typeface="Times New Roman" panose="02020603050405020304" pitchFamily="18" charset="0"/>
              <a:cs typeface="Times New Roman" panose="02020603050405020304" pitchFamily="18" charset="0"/>
            </a:rPr>
            <a:t>Формирование пространственных </a:t>
          </a:r>
        </a:p>
        <a:p>
          <a:pPr marL="0" lvl="0" indent="0" algn="ctr" defTabSz="18224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4100" b="1" kern="1200" dirty="0">
              <a:solidFill>
                <a:schemeClr val="tx1"/>
              </a:solidFill>
              <a:effectLst>
                <a:glow rad="139700">
                  <a:schemeClr val="accent3">
                    <a:satMod val="175000"/>
                    <a:alpha val="40000"/>
                  </a:schemeClr>
                </a:glow>
              </a:effectLst>
              <a:latin typeface="Times New Roman" panose="02020603050405020304" pitchFamily="18" charset="0"/>
              <a:cs typeface="Times New Roman" panose="02020603050405020304" pitchFamily="18" charset="0"/>
            </a:rPr>
            <a:t>представлений</a:t>
          </a:r>
        </a:p>
      </dsp:txBody>
      <dsp:txXfrm>
        <a:off x="1000096" y="857240"/>
        <a:ext cx="6500868" cy="1922389"/>
      </dsp:txXfrm>
    </dsp:sp>
    <dsp:sp modelId="{F27B20A1-DF97-4831-81CB-C77007F7971C}">
      <dsp:nvSpPr>
        <dsp:cNvPr id="0" name=""/>
        <dsp:cNvSpPr/>
      </dsp:nvSpPr>
      <dsp:spPr>
        <a:xfrm>
          <a:off x="2049" y="3582670"/>
          <a:ext cx="3844779" cy="1922389"/>
        </a:xfrm>
        <a:prstGeom prst="rect">
          <a:avLst/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15240" tIns="15240" rIns="15240" bIns="15240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>
              <a:solidFill>
                <a:schemeClr val="tx1"/>
              </a:solidFill>
              <a:effectLst>
                <a:glow rad="139700">
                  <a:schemeClr val="accent3">
                    <a:satMod val="175000"/>
                    <a:alpha val="40000"/>
                  </a:schemeClr>
                </a:glow>
              </a:effectLst>
              <a:latin typeface="Times New Roman" panose="02020603050405020304" pitchFamily="18" charset="0"/>
              <a:cs typeface="Times New Roman" panose="02020603050405020304" pitchFamily="18" charset="0"/>
            </a:rPr>
            <a:t>Трехмерное пространство               (основные пространственные направления)</a:t>
          </a:r>
        </a:p>
      </dsp:txBody>
      <dsp:txXfrm>
        <a:off x="2049" y="3582670"/>
        <a:ext cx="3844779" cy="1922389"/>
      </dsp:txXfrm>
    </dsp:sp>
    <dsp:sp modelId="{621D6376-4988-446C-AC0E-3EAD2FDD1B78}">
      <dsp:nvSpPr>
        <dsp:cNvPr id="0" name=""/>
        <dsp:cNvSpPr/>
      </dsp:nvSpPr>
      <dsp:spPr>
        <a:xfrm>
          <a:off x="4656282" y="3574730"/>
          <a:ext cx="3844779" cy="1922389"/>
        </a:xfrm>
        <a:prstGeom prst="rect">
          <a:avLst/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15240" tIns="15240" rIns="15240" bIns="15240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>
              <a:solidFill>
                <a:schemeClr val="tx1"/>
              </a:solidFill>
              <a:effectLst>
                <a:glow rad="139700">
                  <a:schemeClr val="accent3">
                    <a:satMod val="175000"/>
                    <a:alpha val="40000"/>
                  </a:schemeClr>
                </a:glow>
              </a:effectLst>
              <a:latin typeface="Times New Roman" panose="02020603050405020304" pitchFamily="18" charset="0"/>
              <a:cs typeface="Times New Roman" panose="02020603050405020304" pitchFamily="18" charset="0"/>
            </a:rPr>
            <a:t>Двухмерное пространство                               (на листе бумаг</a:t>
          </a:r>
          <a:r>
            <a:rPr lang="ru-RU" sz="2400" b="1" kern="1200" dirty="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и)</a:t>
          </a:r>
        </a:p>
      </dsp:txBody>
      <dsp:txXfrm>
        <a:off x="4656282" y="3574730"/>
        <a:ext cx="3844779" cy="1922389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F829BA3-D112-442D-BC02-1A87B6F5B247}">
      <dsp:nvSpPr>
        <dsp:cNvPr id="0" name=""/>
        <dsp:cNvSpPr/>
      </dsp:nvSpPr>
      <dsp:spPr>
        <a:xfrm>
          <a:off x="1679510" y="799969"/>
          <a:ext cx="4881250" cy="1717496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shade val="8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3">
                <a:shade val="8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shade val="8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i="0" kern="1200" dirty="0">
              <a:solidFill>
                <a:schemeClr val="tx1"/>
              </a:solidFill>
              <a:effectLst>
                <a:glow rad="228600">
                  <a:schemeClr val="accent3">
                    <a:satMod val="175000"/>
                    <a:alpha val="40000"/>
                  </a:schemeClr>
                </a:glow>
              </a:effectLst>
              <a:latin typeface="Times New Roman" panose="02020603050405020304" pitchFamily="18" charset="0"/>
              <a:cs typeface="Times New Roman" panose="02020603050405020304" pitchFamily="18" charset="0"/>
            </a:rPr>
            <a:t>Анализаторы , участвующие в формировании пространственных представлений                                   у дошкольников</a:t>
          </a:r>
        </a:p>
      </dsp:txBody>
      <dsp:txXfrm>
        <a:off x="1729814" y="850273"/>
        <a:ext cx="4780642" cy="1616888"/>
      </dsp:txXfrm>
    </dsp:sp>
    <dsp:sp modelId="{643B354F-6BD7-40A8-9DC6-1AC51CDFCC53}">
      <dsp:nvSpPr>
        <dsp:cNvPr id="0" name=""/>
        <dsp:cNvSpPr/>
      </dsp:nvSpPr>
      <dsp:spPr>
        <a:xfrm>
          <a:off x="1306943" y="2517466"/>
          <a:ext cx="2813192" cy="745174"/>
        </a:xfrm>
        <a:custGeom>
          <a:avLst/>
          <a:gdLst/>
          <a:ahLst/>
          <a:cxnLst/>
          <a:rect l="0" t="0" r="0" b="0"/>
          <a:pathLst>
            <a:path>
              <a:moveTo>
                <a:pt x="2813192" y="0"/>
              </a:moveTo>
              <a:lnTo>
                <a:pt x="2813192" y="372587"/>
              </a:lnTo>
              <a:lnTo>
                <a:pt x="0" y="372587"/>
              </a:lnTo>
              <a:lnTo>
                <a:pt x="0" y="745174"/>
              </a:lnTo>
            </a:path>
          </a:pathLst>
        </a:custGeom>
        <a:noFill/>
        <a:ln w="25400" cap="flat" cmpd="sng" algn="ctr">
          <a:solidFill>
            <a:schemeClr val="accent3">
              <a:tint val="99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0DAA6E9-8737-48B8-8004-1C790B03B672}">
      <dsp:nvSpPr>
        <dsp:cNvPr id="0" name=""/>
        <dsp:cNvSpPr/>
      </dsp:nvSpPr>
      <dsp:spPr>
        <a:xfrm>
          <a:off x="306133" y="3262640"/>
          <a:ext cx="2001620" cy="81056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tint val="99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3">
                <a:tint val="99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tint val="99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68580" tIns="68580" rIns="68580" bIns="68580" numCol="1" spcCol="1270" anchor="ctr" anchorCtr="0">
          <a:noAutofit/>
        </a:bodyPr>
        <a:lstStyle/>
        <a:p>
          <a:pPr marL="0" lvl="0" indent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800" b="1" i="0" kern="1200" dirty="0" err="1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Кинестетичес</a:t>
          </a:r>
          <a:endParaRPr lang="ru-RU" sz="1800" b="1" i="0" kern="1200" dirty="0">
            <a:solidFill>
              <a:schemeClr val="tx1"/>
            </a:solidFill>
            <a:latin typeface="Times New Roman" panose="02020603050405020304" pitchFamily="18" charset="0"/>
            <a:cs typeface="Times New Roman" panose="02020603050405020304" pitchFamily="18" charset="0"/>
          </a:endParaRPr>
        </a:p>
        <a:p>
          <a:pPr marL="0" lvl="0" indent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800" b="1" i="0" kern="120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кий </a:t>
          </a:r>
          <a:endParaRPr lang="ru-RU" sz="1800" b="1" i="0" kern="1200" dirty="0">
            <a:solidFill>
              <a:schemeClr val="tx1"/>
            </a:solidFill>
            <a:latin typeface="Times New Roman" panose="02020603050405020304" pitchFamily="18" charset="0"/>
            <a:cs typeface="Times New Roman" panose="02020603050405020304" pitchFamily="18" charset="0"/>
          </a:endParaRPr>
        </a:p>
      </dsp:txBody>
      <dsp:txXfrm>
        <a:off x="329874" y="3286381"/>
        <a:ext cx="1954138" cy="763081"/>
      </dsp:txXfrm>
    </dsp:sp>
    <dsp:sp modelId="{BA964556-8C61-4F87-8B18-47820F8829C0}">
      <dsp:nvSpPr>
        <dsp:cNvPr id="0" name=""/>
        <dsp:cNvSpPr/>
      </dsp:nvSpPr>
      <dsp:spPr>
        <a:xfrm>
          <a:off x="1306943" y="4073204"/>
          <a:ext cx="701623" cy="700244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350122"/>
              </a:lnTo>
              <a:lnTo>
                <a:pt x="701623" y="350122"/>
              </a:lnTo>
              <a:lnTo>
                <a:pt x="701623" y="700244"/>
              </a:lnTo>
            </a:path>
          </a:pathLst>
        </a:custGeom>
        <a:noFill/>
        <a:ln w="25400" cap="flat" cmpd="sng" algn="ctr">
          <a:solidFill>
            <a:schemeClr val="accent3">
              <a:tint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8DCCA72-F3F3-47ED-B4F0-768CFD2C4D43}">
      <dsp:nvSpPr>
        <dsp:cNvPr id="0" name=""/>
        <dsp:cNvSpPr/>
      </dsp:nvSpPr>
      <dsp:spPr>
        <a:xfrm>
          <a:off x="911431" y="4773449"/>
          <a:ext cx="2194270" cy="102145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tint val="8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3">
                <a:tint val="8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tint val="8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68580" tIns="68580" rIns="68580" bIns="68580" numCol="1" spcCol="1270" anchor="ctr" anchorCtr="0">
          <a:noAutofit/>
        </a:bodyPr>
        <a:lstStyle/>
        <a:p>
          <a:pPr marL="0" lvl="0" indent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800" b="1" i="0" kern="1200" dirty="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Ориентирование относительно своего тела</a:t>
          </a:r>
        </a:p>
      </dsp:txBody>
      <dsp:txXfrm>
        <a:off x="941348" y="4803366"/>
        <a:ext cx="2134436" cy="961624"/>
      </dsp:txXfrm>
    </dsp:sp>
    <dsp:sp modelId="{6DCE74EF-8CA7-46A2-BCC9-932D8D93F9E4}">
      <dsp:nvSpPr>
        <dsp:cNvPr id="0" name=""/>
        <dsp:cNvSpPr/>
      </dsp:nvSpPr>
      <dsp:spPr>
        <a:xfrm>
          <a:off x="1306943" y="4073204"/>
          <a:ext cx="3560959" cy="695497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347748"/>
              </a:lnTo>
              <a:lnTo>
                <a:pt x="3560959" y="347748"/>
              </a:lnTo>
              <a:lnTo>
                <a:pt x="3560959" y="695497"/>
              </a:lnTo>
            </a:path>
          </a:pathLst>
        </a:custGeom>
        <a:noFill/>
        <a:ln w="25400" cap="flat" cmpd="sng" algn="ctr">
          <a:solidFill>
            <a:schemeClr val="accent3">
              <a:tint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61B7DA73-6EA7-44B0-9738-275721F95D4C}">
      <dsp:nvSpPr>
        <dsp:cNvPr id="0" name=""/>
        <dsp:cNvSpPr/>
      </dsp:nvSpPr>
      <dsp:spPr>
        <a:xfrm>
          <a:off x="3967717" y="4768701"/>
          <a:ext cx="1800369" cy="850957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tint val="8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3">
                <a:tint val="8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tint val="8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68580" tIns="68580" rIns="68580" bIns="68580" numCol="1" spcCol="1270" anchor="ctr" anchorCtr="0">
          <a:noAutofit/>
        </a:bodyPr>
        <a:lstStyle/>
        <a:p>
          <a:pPr marL="0" lvl="0" indent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800" b="1" i="0" kern="1200" dirty="0" err="1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Ориентирова</a:t>
          </a:r>
          <a:endParaRPr lang="ru-RU" sz="1800" b="1" i="0" kern="1200" dirty="0">
            <a:solidFill>
              <a:schemeClr val="tx1"/>
            </a:solidFill>
            <a:latin typeface="Times New Roman" panose="02020603050405020304" pitchFamily="18" charset="0"/>
            <a:cs typeface="Times New Roman" panose="02020603050405020304" pitchFamily="18" charset="0"/>
          </a:endParaRPr>
        </a:p>
        <a:p>
          <a:pPr marL="0" lvl="0" indent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800" b="1" i="0" kern="1200" dirty="0" err="1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ние</a:t>
          </a:r>
          <a:r>
            <a:rPr lang="ru-RU" sz="1800" b="1" i="0" kern="1200" dirty="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 относительно точки отсчета</a:t>
          </a:r>
        </a:p>
      </dsp:txBody>
      <dsp:txXfrm>
        <a:off x="3992641" y="4793625"/>
        <a:ext cx="1750521" cy="801109"/>
      </dsp:txXfrm>
    </dsp:sp>
    <dsp:sp modelId="{06CE81FC-606E-4258-85A2-0C6E570AA38C}">
      <dsp:nvSpPr>
        <dsp:cNvPr id="0" name=""/>
        <dsp:cNvSpPr/>
      </dsp:nvSpPr>
      <dsp:spPr>
        <a:xfrm>
          <a:off x="3612762" y="2517466"/>
          <a:ext cx="507373" cy="872750"/>
        </a:xfrm>
        <a:custGeom>
          <a:avLst/>
          <a:gdLst/>
          <a:ahLst/>
          <a:cxnLst/>
          <a:rect l="0" t="0" r="0" b="0"/>
          <a:pathLst>
            <a:path>
              <a:moveTo>
                <a:pt x="507373" y="0"/>
              </a:moveTo>
              <a:lnTo>
                <a:pt x="507373" y="436375"/>
              </a:lnTo>
              <a:lnTo>
                <a:pt x="0" y="436375"/>
              </a:lnTo>
              <a:lnTo>
                <a:pt x="0" y="872750"/>
              </a:lnTo>
            </a:path>
          </a:pathLst>
        </a:custGeom>
        <a:noFill/>
        <a:ln w="25400" cap="flat" cmpd="sng" algn="ctr">
          <a:solidFill>
            <a:schemeClr val="accent3">
              <a:tint val="99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710500F-038E-4A1C-9958-EACEFE9F3E42}">
      <dsp:nvSpPr>
        <dsp:cNvPr id="0" name=""/>
        <dsp:cNvSpPr/>
      </dsp:nvSpPr>
      <dsp:spPr>
        <a:xfrm>
          <a:off x="2559676" y="3390216"/>
          <a:ext cx="2106171" cy="5938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tint val="99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3">
                <a:tint val="99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tint val="99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68580" tIns="68580" rIns="68580" bIns="68580" numCol="1" spcCol="1270" anchor="ctr" anchorCtr="0">
          <a:noAutofit/>
        </a:bodyPr>
        <a:lstStyle/>
        <a:p>
          <a:pPr marL="0" lvl="0" indent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800" b="1" i="0" kern="1200" dirty="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Осязательный (ощупывание)</a:t>
          </a:r>
        </a:p>
      </dsp:txBody>
      <dsp:txXfrm>
        <a:off x="2577070" y="3407610"/>
        <a:ext cx="2071383" cy="559085"/>
      </dsp:txXfrm>
    </dsp:sp>
    <dsp:sp modelId="{E7029C18-6CAF-4A62-B139-88D42DB3DBB3}">
      <dsp:nvSpPr>
        <dsp:cNvPr id="0" name=""/>
        <dsp:cNvSpPr/>
      </dsp:nvSpPr>
      <dsp:spPr>
        <a:xfrm>
          <a:off x="4120136" y="2517466"/>
          <a:ext cx="1796007" cy="94847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74235"/>
              </a:lnTo>
              <a:lnTo>
                <a:pt x="1796007" y="474235"/>
              </a:lnTo>
              <a:lnTo>
                <a:pt x="1796007" y="948471"/>
              </a:lnTo>
            </a:path>
          </a:pathLst>
        </a:custGeom>
        <a:noFill/>
        <a:ln w="25400" cap="flat" cmpd="sng" algn="ctr">
          <a:solidFill>
            <a:schemeClr val="accent3">
              <a:tint val="99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7AC346CA-74E1-4E98-819B-6D8087AE51E5}">
      <dsp:nvSpPr>
        <dsp:cNvPr id="0" name=""/>
        <dsp:cNvSpPr/>
      </dsp:nvSpPr>
      <dsp:spPr>
        <a:xfrm>
          <a:off x="4991300" y="3465937"/>
          <a:ext cx="1849685" cy="776210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tint val="99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3">
                <a:tint val="99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tint val="99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68580" tIns="68580" rIns="68580" bIns="68580" numCol="1" spcCol="1270" anchor="ctr" anchorCtr="0">
          <a:noAutofit/>
        </a:bodyPr>
        <a:lstStyle/>
        <a:p>
          <a:pPr marL="0" lvl="0" indent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800" b="1" i="0" kern="1200" dirty="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Зрительный (осматривание)</a:t>
          </a:r>
        </a:p>
      </dsp:txBody>
      <dsp:txXfrm>
        <a:off x="5014034" y="3488671"/>
        <a:ext cx="1804217" cy="730742"/>
      </dsp:txXfrm>
    </dsp:sp>
    <dsp:sp modelId="{055D142B-BFBA-425C-8DB8-A1EF0B2D1D20}">
      <dsp:nvSpPr>
        <dsp:cNvPr id="0" name=""/>
        <dsp:cNvSpPr/>
      </dsp:nvSpPr>
      <dsp:spPr>
        <a:xfrm>
          <a:off x="4120136" y="2517466"/>
          <a:ext cx="3845436" cy="833718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16859"/>
              </a:lnTo>
              <a:lnTo>
                <a:pt x="3845436" y="416859"/>
              </a:lnTo>
              <a:lnTo>
                <a:pt x="3845436" y="833718"/>
              </a:lnTo>
            </a:path>
          </a:pathLst>
        </a:custGeom>
        <a:noFill/>
        <a:ln w="25400" cap="flat" cmpd="sng" algn="ctr">
          <a:solidFill>
            <a:schemeClr val="accent3">
              <a:tint val="99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1D856F64-8FF7-4977-A07D-8CFEC55905E4}">
      <dsp:nvSpPr>
        <dsp:cNvPr id="0" name=""/>
        <dsp:cNvSpPr/>
      </dsp:nvSpPr>
      <dsp:spPr>
        <a:xfrm>
          <a:off x="7110360" y="3351184"/>
          <a:ext cx="1710424" cy="863279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tint val="99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3">
                <a:tint val="99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tint val="99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68580" tIns="68580" rIns="68580" bIns="68580" numCol="1" spcCol="1270" anchor="ctr" anchorCtr="0">
          <a:noAutofit/>
        </a:bodyPr>
        <a:lstStyle/>
        <a:p>
          <a:pPr marL="0" lvl="0" indent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800" b="1" i="0" kern="1200" dirty="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Слуховой (работа по инструкции) </a:t>
          </a:r>
        </a:p>
      </dsp:txBody>
      <dsp:txXfrm>
        <a:off x="7135645" y="3376469"/>
        <a:ext cx="1659854" cy="812709"/>
      </dsp:txXfrm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F264F66-3ECF-4507-B058-DCFFE244C0C1}">
      <dsp:nvSpPr>
        <dsp:cNvPr id="0" name=""/>
        <dsp:cNvSpPr/>
      </dsp:nvSpPr>
      <dsp:spPr>
        <a:xfrm>
          <a:off x="4114800" y="2140807"/>
          <a:ext cx="2265755" cy="626562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313281"/>
              </a:lnTo>
              <a:lnTo>
                <a:pt x="2265755" y="313281"/>
              </a:lnTo>
              <a:lnTo>
                <a:pt x="2265755" y="626562"/>
              </a:lnTo>
            </a:path>
          </a:pathLst>
        </a:custGeom>
        <a:noFill/>
        <a:ln w="25400" cap="flat" cmpd="sng" algn="ctr">
          <a:solidFill>
            <a:schemeClr val="accent6"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threePt" dir="t">
            <a:rot lat="0" lon="0" rev="7500000"/>
          </a:lightRig>
        </a:scene3d>
        <a:sp3d z="-40000" prstMaterial="matte"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62A14C36-D479-455A-9507-CC3BCCD55B0D}">
      <dsp:nvSpPr>
        <dsp:cNvPr id="0" name=""/>
        <dsp:cNvSpPr/>
      </dsp:nvSpPr>
      <dsp:spPr>
        <a:xfrm>
          <a:off x="1952651" y="2140807"/>
          <a:ext cx="2162148" cy="626562"/>
        </a:xfrm>
        <a:custGeom>
          <a:avLst/>
          <a:gdLst/>
          <a:ahLst/>
          <a:cxnLst/>
          <a:rect l="0" t="0" r="0" b="0"/>
          <a:pathLst>
            <a:path>
              <a:moveTo>
                <a:pt x="2162148" y="0"/>
              </a:moveTo>
              <a:lnTo>
                <a:pt x="2162148" y="313281"/>
              </a:lnTo>
              <a:lnTo>
                <a:pt x="0" y="313281"/>
              </a:lnTo>
              <a:lnTo>
                <a:pt x="0" y="626562"/>
              </a:lnTo>
            </a:path>
          </a:pathLst>
        </a:custGeom>
        <a:noFill/>
        <a:ln w="25400" cap="flat" cmpd="sng" algn="ctr">
          <a:solidFill>
            <a:schemeClr val="accent6"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threePt" dir="t">
            <a:rot lat="0" lon="0" rev="7500000"/>
          </a:lightRig>
        </a:scene3d>
        <a:sp3d z="-40000" prstMaterial="matte"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5693AE6-0AEE-43AD-A558-E110544F7ABF}">
      <dsp:nvSpPr>
        <dsp:cNvPr id="0" name=""/>
        <dsp:cNvSpPr/>
      </dsp:nvSpPr>
      <dsp:spPr>
        <a:xfrm>
          <a:off x="629067" y="345541"/>
          <a:ext cx="6971464" cy="1795266"/>
        </a:xfrm>
        <a:prstGeom prst="rect">
          <a:avLst/>
        </a:prstGeom>
        <a:solidFill>
          <a:schemeClr val="bg1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marL="0" lvl="0" indent="0" algn="ctr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3200" b="1" i="0" kern="1200" dirty="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Аспекты своевременного развития                                  у детей пространственных представлений</a:t>
          </a:r>
        </a:p>
      </dsp:txBody>
      <dsp:txXfrm>
        <a:off x="629067" y="345541"/>
        <a:ext cx="6971464" cy="1795266"/>
      </dsp:txXfrm>
    </dsp:sp>
    <dsp:sp modelId="{B614E74D-97FF-492C-A7CD-9687CE50833D}">
      <dsp:nvSpPr>
        <dsp:cNvPr id="0" name=""/>
        <dsp:cNvSpPr/>
      </dsp:nvSpPr>
      <dsp:spPr>
        <a:xfrm>
          <a:off x="177" y="2767370"/>
          <a:ext cx="3904947" cy="3030713"/>
        </a:xfrm>
        <a:prstGeom prst="rect">
          <a:avLst/>
        </a:prstGeom>
        <a:gradFill rotWithShape="0">
          <a:gsLst>
            <a:gs pos="0">
              <a:schemeClr val="accent6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6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6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1430" tIns="11430" rIns="11430" bIns="11430" numCol="1" spcCol="1270" anchor="ctr" anchorCtr="0">
          <a:noAutofit/>
        </a:bodyPr>
        <a:lstStyle/>
        <a:p>
          <a:pPr lvl="0" indent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ru-RU" sz="1800" b="1" i="1" u="sng" kern="1200" dirty="0">
            <a:solidFill>
              <a:schemeClr val="accent6">
                <a:lumMod val="50000"/>
              </a:schemeClr>
            </a:solidFill>
          </a:endParaRPr>
        </a:p>
        <a:p>
          <a:pPr lvl="0" indent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i="0" u="sng" kern="1200" dirty="0" err="1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Общеразвивающий</a:t>
          </a:r>
          <a:r>
            <a:rPr lang="ru-RU" sz="2400" b="1" i="0" u="sng" kern="1200" dirty="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:</a:t>
          </a:r>
        </a:p>
        <a:p>
          <a:pPr marL="108000" lvl="0" indent="0" algn="l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800" kern="1200" dirty="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- </a:t>
          </a:r>
          <a:r>
            <a:rPr lang="ru-RU" sz="1800" kern="1200" dirty="0">
              <a:solidFill>
                <a:schemeClr val="tx1"/>
              </a:solidFill>
              <a:latin typeface="Segoe UI Semibold" panose="020B0702040204020203" pitchFamily="34" charset="0"/>
              <a:cs typeface="Segoe UI Semibold" panose="020B0702040204020203" pitchFamily="34" charset="0"/>
            </a:rPr>
            <a:t>умение ориентироваться в пространстве в развитии познавательной деятельности ребенка;</a:t>
          </a:r>
        </a:p>
        <a:p>
          <a:pPr marL="108000" lvl="0" indent="0" algn="l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800" kern="1200" dirty="0">
              <a:solidFill>
                <a:schemeClr val="tx1"/>
              </a:solidFill>
              <a:latin typeface="Segoe UI Semibold" panose="020B0702040204020203" pitchFamily="34" charset="0"/>
              <a:cs typeface="Segoe UI Semibold" panose="020B0702040204020203" pitchFamily="34" charset="0"/>
            </a:rPr>
            <a:t>- совершенствование сенсорных, интеллектуальных и творческих способностей;</a:t>
          </a:r>
        </a:p>
        <a:p>
          <a:pPr marL="108000" lvl="0" indent="0" algn="l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800" kern="1200" dirty="0">
              <a:solidFill>
                <a:schemeClr val="tx1"/>
              </a:solidFill>
              <a:latin typeface="Segoe UI Semibold" panose="020B0702040204020203" pitchFamily="34" charset="0"/>
              <a:cs typeface="Segoe UI Semibold" panose="020B0702040204020203" pitchFamily="34" charset="0"/>
            </a:rPr>
            <a:t>- повышение результативности и качества деятельности</a:t>
          </a:r>
        </a:p>
        <a:p>
          <a:pPr lvl="0" indent="0" algn="l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ru-RU" sz="1800" kern="1200" dirty="0">
            <a:solidFill>
              <a:schemeClr val="accent6">
                <a:lumMod val="50000"/>
              </a:schemeClr>
            </a:solidFill>
          </a:endParaRPr>
        </a:p>
        <a:p>
          <a:pPr lvl="0" indent="0" algn="l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ru-RU" sz="1800" kern="1200" dirty="0">
            <a:solidFill>
              <a:schemeClr val="accent6">
                <a:lumMod val="50000"/>
              </a:schemeClr>
            </a:solidFill>
          </a:endParaRPr>
        </a:p>
      </dsp:txBody>
      <dsp:txXfrm>
        <a:off x="177" y="2767370"/>
        <a:ext cx="3904947" cy="3030713"/>
      </dsp:txXfrm>
    </dsp:sp>
    <dsp:sp modelId="{E07103CC-B5AF-4B91-86B0-5C56349C3E00}">
      <dsp:nvSpPr>
        <dsp:cNvPr id="0" name=""/>
        <dsp:cNvSpPr/>
      </dsp:nvSpPr>
      <dsp:spPr>
        <a:xfrm>
          <a:off x="4531687" y="2767370"/>
          <a:ext cx="3697734" cy="2847190"/>
        </a:xfrm>
        <a:prstGeom prst="rect">
          <a:avLst/>
        </a:prstGeom>
        <a:gradFill rotWithShape="0">
          <a:gsLst>
            <a:gs pos="0">
              <a:schemeClr val="accent6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6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6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5240" tIns="15240" rIns="15240" bIns="15240" numCol="1" spcCol="1270" anchor="ctr" anchorCtr="0">
          <a:noAutofit/>
        </a:bodyPr>
        <a:lstStyle/>
        <a:p>
          <a:pPr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i="1" u="sng" kern="1200" dirty="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Математический:</a:t>
          </a:r>
        </a:p>
        <a:p>
          <a:pPr marL="72000" lvl="0" indent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800" b="0" i="1" kern="1200" dirty="0">
              <a:solidFill>
                <a:schemeClr val="tx1"/>
              </a:solidFill>
              <a:latin typeface="Times New Roman" panose="02020603050405020304" pitchFamily="18" charset="0"/>
              <a:cs typeface="Times New Roman" panose="02020603050405020304" pitchFamily="18" charset="0"/>
            </a:rPr>
            <a:t>- </a:t>
          </a:r>
          <a:r>
            <a:rPr lang="ru-RU" sz="1800" b="0" i="1" kern="1200" dirty="0">
              <a:solidFill>
                <a:schemeClr val="tx1"/>
              </a:solidFill>
              <a:latin typeface="Segoe UI Semibold" panose="020B0702040204020203" pitchFamily="34" charset="0"/>
              <a:cs typeface="Segoe UI Semibold" panose="020B0702040204020203" pitchFamily="34" charset="0"/>
            </a:rPr>
            <a:t>владение различными способами пространственной ориентации:</a:t>
          </a:r>
        </a:p>
        <a:p>
          <a:pPr marL="180000" lvl="0" indent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800" b="0" i="1" kern="1200" dirty="0">
              <a:solidFill>
                <a:schemeClr val="tx1"/>
              </a:solidFill>
              <a:latin typeface="Segoe UI Semibold" panose="020B0702040204020203" pitchFamily="34" charset="0"/>
              <a:cs typeface="Segoe UI Semibold" panose="020B0702040204020203" pitchFamily="34" charset="0"/>
            </a:rPr>
            <a:t>     а) по схеме  тела</a:t>
          </a:r>
        </a:p>
        <a:p>
          <a:pPr marL="180000" lvl="0" indent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800" b="0" i="1" kern="1200" dirty="0">
              <a:solidFill>
                <a:schemeClr val="tx1"/>
              </a:solidFill>
              <a:latin typeface="Segoe UI Semibold" panose="020B0702040204020203" pitchFamily="34" charset="0"/>
              <a:cs typeface="Segoe UI Semibold" panose="020B0702040204020203" pitchFamily="34" charset="0"/>
            </a:rPr>
            <a:t>     б) по схеме предметов</a:t>
          </a:r>
        </a:p>
        <a:p>
          <a:pPr marL="180000" lvl="0" indent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800" b="0" i="1" kern="1200" dirty="0">
              <a:solidFill>
                <a:schemeClr val="tx1"/>
              </a:solidFill>
              <a:latin typeface="Segoe UI Semibold" panose="020B0702040204020203" pitchFamily="34" charset="0"/>
              <a:cs typeface="Segoe UI Semibold" panose="020B0702040204020203" pitchFamily="34" charset="0"/>
            </a:rPr>
            <a:t>     в) по направлениям                            пространства «от себя». </a:t>
          </a:r>
        </a:p>
        <a:p>
          <a:pPr marL="180000" lvl="0" indent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800" b="0" i="1" kern="1200" dirty="0">
              <a:solidFill>
                <a:schemeClr val="accent6">
                  <a:lumMod val="50000"/>
                </a:schemeClr>
              </a:solidFill>
              <a:latin typeface="Monotype Corsiva" pitchFamily="66" charset="0"/>
            </a:rPr>
            <a:t>       </a:t>
          </a:r>
        </a:p>
        <a:p>
          <a:pPr lvl="0" indent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ru-RU" sz="1800" kern="1200" dirty="0">
            <a:solidFill>
              <a:schemeClr val="accent6">
                <a:lumMod val="50000"/>
              </a:schemeClr>
            </a:solidFill>
          </a:endParaRPr>
        </a:p>
      </dsp:txBody>
      <dsp:txXfrm>
        <a:off x="4531687" y="2767370"/>
        <a:ext cx="3697734" cy="2847190"/>
      </dsp:txXfrm>
    </dsp:sp>
  </dsp:spTree>
</dsp:drawing>
</file>

<file path=ppt/diagrams/drawing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6622D8F6-6BA6-44C4-8259-70372844157C}">
      <dsp:nvSpPr>
        <dsp:cNvPr id="0" name=""/>
        <dsp:cNvSpPr/>
      </dsp:nvSpPr>
      <dsp:spPr>
        <a:xfrm>
          <a:off x="3275854" y="1716496"/>
          <a:ext cx="2636151" cy="2318711"/>
        </a:xfrm>
        <a:prstGeom prst="ellipse">
          <a:avLst/>
        </a:prstGeom>
        <a:gradFill rotWithShape="0">
          <a:gsLst>
            <a:gs pos="0">
              <a:schemeClr val="accent4">
                <a:hueOff val="0"/>
                <a:satOff val="0"/>
                <a:lumOff val="0"/>
                <a:alphaOff val="0"/>
                <a:tint val="50000"/>
                <a:satMod val="300000"/>
              </a:schemeClr>
            </a:gs>
            <a:gs pos="35000">
              <a:schemeClr val="accent4">
                <a:hueOff val="0"/>
                <a:satOff val="0"/>
                <a:lumOff val="0"/>
                <a:alphaOff val="0"/>
                <a:tint val="37000"/>
                <a:satMod val="300000"/>
              </a:schemeClr>
            </a:gs>
            <a:gs pos="100000">
              <a:schemeClr val="accent4">
                <a:hueOff val="0"/>
                <a:satOff val="0"/>
                <a:lumOff val="0"/>
                <a:alphaOff val="0"/>
                <a:tint val="15000"/>
                <a:satMod val="350000"/>
              </a:schemeClr>
            </a:gs>
          </a:gsLst>
          <a:lin ang="16200000" scaled="1"/>
        </a:gra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marL="0" lvl="0" indent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000" b="1" i="0" kern="1200" dirty="0">
              <a:latin typeface="Times New Roman" panose="02020603050405020304" pitchFamily="18" charset="0"/>
              <a:cs typeface="Times New Roman" panose="02020603050405020304" pitchFamily="18" charset="0"/>
            </a:rPr>
            <a:t>Этапы формирования пространственных представлений</a:t>
          </a:r>
        </a:p>
      </dsp:txBody>
      <dsp:txXfrm>
        <a:off x="3661909" y="2056063"/>
        <a:ext cx="1864041" cy="1639577"/>
      </dsp:txXfrm>
    </dsp:sp>
    <dsp:sp modelId="{0E304235-1FC1-4AB9-826E-46FF084CDF36}">
      <dsp:nvSpPr>
        <dsp:cNvPr id="0" name=""/>
        <dsp:cNvSpPr/>
      </dsp:nvSpPr>
      <dsp:spPr>
        <a:xfrm rot="16200000">
          <a:off x="4577901" y="1684880"/>
          <a:ext cx="32057" cy="31175"/>
        </a:xfrm>
        <a:custGeom>
          <a:avLst/>
          <a:gdLst/>
          <a:ahLst/>
          <a:cxnLst/>
          <a:rect l="0" t="0" r="0" b="0"/>
          <a:pathLst>
            <a:path>
              <a:moveTo>
                <a:pt x="0" y="15587"/>
              </a:moveTo>
              <a:lnTo>
                <a:pt x="32057" y="15587"/>
              </a:lnTo>
            </a:path>
          </a:pathLst>
        </a:custGeom>
        <a:noFill/>
        <a:ln w="25400" cap="flat" cmpd="sng" algn="ctr">
          <a:solidFill>
            <a:schemeClr val="accent6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marL="0" lvl="0" indent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ru-RU" sz="1600" b="1" i="1" kern="1200">
            <a:latin typeface="Monotype Corsiva" pitchFamily="66" charset="0"/>
          </a:endParaRPr>
        </a:p>
      </dsp:txBody>
      <dsp:txXfrm>
        <a:off x="4593129" y="1699666"/>
        <a:ext cx="1602" cy="1602"/>
      </dsp:txXfrm>
    </dsp:sp>
    <dsp:sp modelId="{EDB60E36-8646-443B-BA57-64EA671696EC}">
      <dsp:nvSpPr>
        <dsp:cNvPr id="0" name=""/>
        <dsp:cNvSpPr/>
      </dsp:nvSpPr>
      <dsp:spPr>
        <a:xfrm>
          <a:off x="3522359" y="-57643"/>
          <a:ext cx="2143141" cy="1742082"/>
        </a:xfrm>
        <a:prstGeom prst="ellipse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50000"/>
                <a:satMod val="300000"/>
              </a:schemeClr>
            </a:gs>
            <a:gs pos="35000">
              <a:schemeClr val="accent5">
                <a:hueOff val="0"/>
                <a:satOff val="0"/>
                <a:lumOff val="0"/>
                <a:alphaOff val="0"/>
                <a:tint val="37000"/>
                <a:satMod val="30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15000"/>
                <a:satMod val="350000"/>
              </a:schemeClr>
            </a:gs>
          </a:gsLst>
          <a:lin ang="16200000" scaled="1"/>
        </a:gra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0160" tIns="10160" rIns="10160" bIns="10160" numCol="1" spcCol="1270" anchor="ctr" anchorCtr="0">
          <a:noAutofit/>
        </a:bodyPr>
        <a:lstStyle/>
        <a:p>
          <a:pPr marL="0" lvl="0" indent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600" b="1" i="0" kern="1200" dirty="0">
              <a:latin typeface="Times New Roman" panose="02020603050405020304" pitchFamily="18" charset="0"/>
              <a:cs typeface="Times New Roman" panose="02020603050405020304" pitchFamily="18" charset="0"/>
            </a:rPr>
            <a:t>1-этап </a:t>
          </a:r>
        </a:p>
        <a:p>
          <a:pPr marL="0" lvl="0" indent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600" b="1" i="0" kern="1200" dirty="0">
              <a:latin typeface="Times New Roman" panose="02020603050405020304" pitchFamily="18" charset="0"/>
              <a:cs typeface="Times New Roman" panose="02020603050405020304" pitchFamily="18" charset="0"/>
            </a:rPr>
            <a:t>Точка отсчета «от себя»</a:t>
          </a:r>
        </a:p>
      </dsp:txBody>
      <dsp:txXfrm>
        <a:off x="3836215" y="197479"/>
        <a:ext cx="1515429" cy="1231838"/>
      </dsp:txXfrm>
    </dsp:sp>
    <dsp:sp modelId="{C8B394B8-F866-477F-AC19-A183FA50BEFA}">
      <dsp:nvSpPr>
        <dsp:cNvPr id="0" name=""/>
        <dsp:cNvSpPr/>
      </dsp:nvSpPr>
      <dsp:spPr>
        <a:xfrm rot="20166991">
          <a:off x="5731082" y="2149079"/>
          <a:ext cx="937959" cy="31175"/>
        </a:xfrm>
        <a:custGeom>
          <a:avLst/>
          <a:gdLst/>
          <a:ahLst/>
          <a:cxnLst/>
          <a:rect l="0" t="0" r="0" b="0"/>
          <a:pathLst>
            <a:path>
              <a:moveTo>
                <a:pt x="0" y="15587"/>
              </a:moveTo>
              <a:lnTo>
                <a:pt x="937959" y="15587"/>
              </a:lnTo>
            </a:path>
          </a:pathLst>
        </a:custGeom>
        <a:noFill/>
        <a:ln w="25400" cap="flat" cmpd="sng" algn="ctr">
          <a:solidFill>
            <a:schemeClr val="accent6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marL="0" lvl="0" indent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ru-RU" sz="1600" b="1" i="1" kern="1200">
            <a:latin typeface="Monotype Corsiva" pitchFamily="66" charset="0"/>
          </a:endParaRPr>
        </a:p>
      </dsp:txBody>
      <dsp:txXfrm>
        <a:off x="6176613" y="2141218"/>
        <a:ext cx="46897" cy="46897"/>
      </dsp:txXfrm>
    </dsp:sp>
    <dsp:sp modelId="{8414B28A-6A11-4CE3-BA94-92953472A2E4}">
      <dsp:nvSpPr>
        <dsp:cNvPr id="0" name=""/>
        <dsp:cNvSpPr/>
      </dsp:nvSpPr>
      <dsp:spPr>
        <a:xfrm>
          <a:off x="6516208" y="704675"/>
          <a:ext cx="2027863" cy="1742082"/>
        </a:xfrm>
        <a:prstGeom prst="ellipse">
          <a:avLst/>
        </a:prstGeom>
        <a:gradFill rotWithShape="0">
          <a:gsLst>
            <a:gs pos="0">
              <a:schemeClr val="accent5">
                <a:hueOff val="-2483469"/>
                <a:satOff val="9953"/>
                <a:lumOff val="2157"/>
                <a:alphaOff val="0"/>
                <a:tint val="50000"/>
                <a:satMod val="300000"/>
              </a:schemeClr>
            </a:gs>
            <a:gs pos="35000">
              <a:schemeClr val="accent5">
                <a:hueOff val="-2483469"/>
                <a:satOff val="9953"/>
                <a:lumOff val="2157"/>
                <a:alphaOff val="0"/>
                <a:tint val="37000"/>
                <a:satMod val="300000"/>
              </a:schemeClr>
            </a:gs>
            <a:gs pos="100000">
              <a:schemeClr val="accent5">
                <a:hueOff val="-2483469"/>
                <a:satOff val="9953"/>
                <a:lumOff val="2157"/>
                <a:alphaOff val="0"/>
                <a:tint val="15000"/>
                <a:satMod val="350000"/>
              </a:schemeClr>
            </a:gs>
          </a:gsLst>
          <a:lin ang="16200000" scaled="1"/>
        </a:gra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0160" tIns="10160" rIns="10160" bIns="10160" numCol="1" spcCol="1270" anchor="ctr" anchorCtr="0">
          <a:noAutofit/>
        </a:bodyPr>
        <a:lstStyle/>
        <a:p>
          <a:pPr marL="0" lvl="0" indent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600" b="1" i="0" kern="1200" dirty="0">
              <a:latin typeface="Times New Roman" panose="02020603050405020304" pitchFamily="18" charset="0"/>
              <a:cs typeface="Times New Roman" panose="02020603050405020304" pitchFamily="18" charset="0"/>
            </a:rPr>
            <a:t>2-этап</a:t>
          </a:r>
        </a:p>
        <a:p>
          <a:pPr marL="0" lvl="0" indent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600" b="1" i="0" kern="1200" dirty="0">
              <a:latin typeface="Times New Roman" panose="02020603050405020304" pitchFamily="18" charset="0"/>
              <a:cs typeface="Times New Roman" panose="02020603050405020304" pitchFamily="18" charset="0"/>
            </a:rPr>
            <a:t>Точка отсчета «от предмета»</a:t>
          </a:r>
        </a:p>
      </dsp:txBody>
      <dsp:txXfrm>
        <a:off x="6813182" y="959797"/>
        <a:ext cx="1433915" cy="1231838"/>
      </dsp:txXfrm>
    </dsp:sp>
    <dsp:sp modelId="{11027091-14C8-4538-ACA8-B3EF69D89629}">
      <dsp:nvSpPr>
        <dsp:cNvPr id="0" name=""/>
        <dsp:cNvSpPr/>
      </dsp:nvSpPr>
      <dsp:spPr>
        <a:xfrm rot="2174796">
          <a:off x="5588497" y="3657309"/>
          <a:ext cx="185198" cy="31175"/>
        </a:xfrm>
        <a:custGeom>
          <a:avLst/>
          <a:gdLst/>
          <a:ahLst/>
          <a:cxnLst/>
          <a:rect l="0" t="0" r="0" b="0"/>
          <a:pathLst>
            <a:path>
              <a:moveTo>
                <a:pt x="0" y="15587"/>
              </a:moveTo>
              <a:lnTo>
                <a:pt x="185198" y="15587"/>
              </a:lnTo>
            </a:path>
          </a:pathLst>
        </a:custGeom>
        <a:noFill/>
        <a:ln w="25400" cap="flat" cmpd="sng" algn="ctr">
          <a:solidFill>
            <a:schemeClr val="accent6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marL="0" lvl="0" indent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ru-RU" sz="1600" b="1" i="1" kern="1200">
            <a:latin typeface="Monotype Corsiva" pitchFamily="66" charset="0"/>
          </a:endParaRPr>
        </a:p>
      </dsp:txBody>
      <dsp:txXfrm>
        <a:off x="5676466" y="3668266"/>
        <a:ext cx="9259" cy="9259"/>
      </dsp:txXfrm>
    </dsp:sp>
    <dsp:sp modelId="{FAE2AF35-1EC9-4DAF-B0A3-E4DCFB7ED7A8}">
      <dsp:nvSpPr>
        <dsp:cNvPr id="0" name=""/>
        <dsp:cNvSpPr/>
      </dsp:nvSpPr>
      <dsp:spPr>
        <a:xfrm>
          <a:off x="5500697" y="3429020"/>
          <a:ext cx="2071700" cy="1742082"/>
        </a:xfrm>
        <a:prstGeom prst="ellipse">
          <a:avLst/>
        </a:prstGeom>
        <a:gradFill rotWithShape="0">
          <a:gsLst>
            <a:gs pos="0">
              <a:schemeClr val="accent5">
                <a:hueOff val="-4966938"/>
                <a:satOff val="19906"/>
                <a:lumOff val="4314"/>
                <a:alphaOff val="0"/>
                <a:tint val="50000"/>
                <a:satMod val="300000"/>
              </a:schemeClr>
            </a:gs>
            <a:gs pos="35000">
              <a:schemeClr val="accent5">
                <a:hueOff val="-4966938"/>
                <a:satOff val="19906"/>
                <a:lumOff val="4314"/>
                <a:alphaOff val="0"/>
                <a:tint val="37000"/>
                <a:satMod val="300000"/>
              </a:schemeClr>
            </a:gs>
            <a:gs pos="100000">
              <a:schemeClr val="accent5">
                <a:hueOff val="-4966938"/>
                <a:satOff val="19906"/>
                <a:lumOff val="4314"/>
                <a:alphaOff val="0"/>
                <a:tint val="15000"/>
                <a:satMod val="350000"/>
              </a:schemeClr>
            </a:gs>
          </a:gsLst>
          <a:lin ang="16200000" scaled="1"/>
        </a:gra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0160" tIns="10160" rIns="10160" bIns="10160" numCol="1" spcCol="1270" anchor="ctr" anchorCtr="0">
          <a:noAutofit/>
        </a:bodyPr>
        <a:lstStyle/>
        <a:p>
          <a:pPr marL="0" lvl="0" indent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600" b="1" i="0" kern="1200" dirty="0">
              <a:latin typeface="Times New Roman" panose="02020603050405020304" pitchFamily="18" charset="0"/>
              <a:cs typeface="Times New Roman" panose="02020603050405020304" pitchFamily="18" charset="0"/>
            </a:rPr>
            <a:t>3-этап</a:t>
          </a:r>
        </a:p>
        <a:p>
          <a:pPr marL="0" lvl="0" indent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600" b="1" i="0" kern="1200" dirty="0">
              <a:latin typeface="Times New Roman" panose="02020603050405020304" pitchFamily="18" charset="0"/>
              <a:cs typeface="Times New Roman" panose="02020603050405020304" pitchFamily="18" charset="0"/>
            </a:rPr>
            <a:t>Определять словом положение предмета</a:t>
          </a:r>
        </a:p>
      </dsp:txBody>
      <dsp:txXfrm>
        <a:off x="5804090" y="3684142"/>
        <a:ext cx="1464914" cy="1231838"/>
      </dsp:txXfrm>
    </dsp:sp>
    <dsp:sp modelId="{8EFEBAF8-2015-4C0D-AB82-58CCFD22EB00}">
      <dsp:nvSpPr>
        <dsp:cNvPr id="0" name=""/>
        <dsp:cNvSpPr/>
      </dsp:nvSpPr>
      <dsp:spPr>
        <a:xfrm rot="8685770">
          <a:off x="3461492" y="3619483"/>
          <a:ext cx="115315" cy="31175"/>
        </a:xfrm>
        <a:custGeom>
          <a:avLst/>
          <a:gdLst/>
          <a:ahLst/>
          <a:cxnLst/>
          <a:rect l="0" t="0" r="0" b="0"/>
          <a:pathLst>
            <a:path>
              <a:moveTo>
                <a:pt x="0" y="15587"/>
              </a:moveTo>
              <a:lnTo>
                <a:pt x="115315" y="15587"/>
              </a:lnTo>
            </a:path>
          </a:pathLst>
        </a:custGeom>
        <a:noFill/>
        <a:ln w="25400" cap="flat" cmpd="sng" algn="ctr">
          <a:solidFill>
            <a:schemeClr val="accent6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marL="0" lvl="0" indent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ru-RU" sz="1600" b="1" i="1" kern="1200">
            <a:latin typeface="Monotype Corsiva" pitchFamily="66" charset="0"/>
          </a:endParaRPr>
        </a:p>
      </dsp:txBody>
      <dsp:txXfrm rot="10800000">
        <a:off x="3516266" y="3632188"/>
        <a:ext cx="5765" cy="5765"/>
      </dsp:txXfrm>
    </dsp:sp>
    <dsp:sp modelId="{81439449-986B-43F4-B4FC-12FEFFBCD47B}">
      <dsp:nvSpPr>
        <dsp:cNvPr id="0" name=""/>
        <dsp:cNvSpPr/>
      </dsp:nvSpPr>
      <dsp:spPr>
        <a:xfrm>
          <a:off x="1643047" y="3357568"/>
          <a:ext cx="2071732" cy="1742082"/>
        </a:xfrm>
        <a:prstGeom prst="ellipse">
          <a:avLst/>
        </a:prstGeom>
        <a:gradFill rotWithShape="0">
          <a:gsLst>
            <a:gs pos="0">
              <a:schemeClr val="accent5">
                <a:hueOff val="-7450407"/>
                <a:satOff val="29858"/>
                <a:lumOff val="6471"/>
                <a:alphaOff val="0"/>
                <a:tint val="50000"/>
                <a:satMod val="300000"/>
              </a:schemeClr>
            </a:gs>
            <a:gs pos="35000">
              <a:schemeClr val="accent5">
                <a:hueOff val="-7450407"/>
                <a:satOff val="29858"/>
                <a:lumOff val="6471"/>
                <a:alphaOff val="0"/>
                <a:tint val="37000"/>
                <a:satMod val="300000"/>
              </a:schemeClr>
            </a:gs>
            <a:gs pos="100000">
              <a:schemeClr val="accent5">
                <a:hueOff val="-7450407"/>
                <a:satOff val="29858"/>
                <a:lumOff val="6471"/>
                <a:alphaOff val="0"/>
                <a:tint val="15000"/>
                <a:satMod val="350000"/>
              </a:schemeClr>
            </a:gs>
          </a:gsLst>
          <a:lin ang="16200000" scaled="1"/>
        </a:gra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0160" tIns="10160" rIns="10160" bIns="10160" numCol="1" spcCol="1270" anchor="ctr" anchorCtr="0">
          <a:noAutofit/>
        </a:bodyPr>
        <a:lstStyle/>
        <a:p>
          <a:pPr marL="0" lvl="0" indent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600" b="1" i="0" kern="1200" dirty="0">
              <a:latin typeface="Times New Roman" panose="02020603050405020304" pitchFamily="18" charset="0"/>
              <a:cs typeface="Times New Roman" panose="02020603050405020304" pitchFamily="18" charset="0"/>
            </a:rPr>
            <a:t>4-этап</a:t>
          </a:r>
        </a:p>
        <a:p>
          <a:pPr marL="0" lvl="0" indent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600" b="1" i="0" kern="1200" dirty="0">
              <a:latin typeface="Times New Roman" panose="02020603050405020304" pitchFamily="18" charset="0"/>
              <a:cs typeface="Times New Roman" panose="02020603050405020304" pitchFamily="18" charset="0"/>
            </a:rPr>
            <a:t>Ориентироваться в 3-мерном пространстве в движении</a:t>
          </a:r>
        </a:p>
      </dsp:txBody>
      <dsp:txXfrm>
        <a:off x="1946445" y="3612690"/>
        <a:ext cx="1464936" cy="1231838"/>
      </dsp:txXfrm>
    </dsp:sp>
    <dsp:sp modelId="{AF0E6D0D-16F6-455B-AB9C-0B67F6F0D652}">
      <dsp:nvSpPr>
        <dsp:cNvPr id="0" name=""/>
        <dsp:cNvSpPr/>
      </dsp:nvSpPr>
      <dsp:spPr>
        <a:xfrm rot="12263443">
          <a:off x="2782076" y="2190666"/>
          <a:ext cx="670192" cy="31175"/>
        </a:xfrm>
        <a:custGeom>
          <a:avLst/>
          <a:gdLst/>
          <a:ahLst/>
          <a:cxnLst/>
          <a:rect l="0" t="0" r="0" b="0"/>
          <a:pathLst>
            <a:path>
              <a:moveTo>
                <a:pt x="0" y="15587"/>
              </a:moveTo>
              <a:lnTo>
                <a:pt x="670192" y="15587"/>
              </a:lnTo>
            </a:path>
          </a:pathLst>
        </a:custGeom>
        <a:noFill/>
        <a:ln w="25400" cap="flat" cmpd="sng" algn="ctr">
          <a:solidFill>
            <a:schemeClr val="accent6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marL="0" lvl="0" indent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ru-RU" sz="1600" b="1" i="1" kern="1200">
            <a:latin typeface="Monotype Corsiva" pitchFamily="66" charset="0"/>
          </a:endParaRPr>
        </a:p>
      </dsp:txBody>
      <dsp:txXfrm rot="10800000">
        <a:off x="3100417" y="2189499"/>
        <a:ext cx="33509" cy="33509"/>
      </dsp:txXfrm>
    </dsp:sp>
    <dsp:sp modelId="{87A4412B-237C-4A2D-8638-BFD26AFB8ABF}">
      <dsp:nvSpPr>
        <dsp:cNvPr id="0" name=""/>
        <dsp:cNvSpPr/>
      </dsp:nvSpPr>
      <dsp:spPr>
        <a:xfrm>
          <a:off x="827586" y="776687"/>
          <a:ext cx="2115585" cy="1742082"/>
        </a:xfrm>
        <a:prstGeom prst="ellipse">
          <a:avLst/>
        </a:prstGeom>
        <a:gradFill rotWithShape="0">
          <a:gsLst>
            <a:gs pos="0">
              <a:schemeClr val="accent5">
                <a:hueOff val="-9933876"/>
                <a:satOff val="39811"/>
                <a:lumOff val="8628"/>
                <a:alphaOff val="0"/>
                <a:tint val="50000"/>
                <a:satMod val="300000"/>
              </a:schemeClr>
            </a:gs>
            <a:gs pos="35000">
              <a:schemeClr val="accent5">
                <a:hueOff val="-9933876"/>
                <a:satOff val="39811"/>
                <a:lumOff val="8628"/>
                <a:alphaOff val="0"/>
                <a:tint val="37000"/>
                <a:satMod val="300000"/>
              </a:schemeClr>
            </a:gs>
            <a:gs pos="100000">
              <a:schemeClr val="accent5">
                <a:hueOff val="-9933876"/>
                <a:satOff val="39811"/>
                <a:lumOff val="8628"/>
                <a:alphaOff val="0"/>
                <a:tint val="15000"/>
                <a:satMod val="350000"/>
              </a:schemeClr>
            </a:gs>
          </a:gsLst>
          <a:lin ang="16200000" scaled="1"/>
        </a:gra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0160" tIns="10160" rIns="10160" bIns="10160" numCol="1" spcCol="1270" anchor="ctr" anchorCtr="0">
          <a:noAutofit/>
        </a:bodyPr>
        <a:lstStyle/>
        <a:p>
          <a:pPr marL="0" lvl="0" indent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600" b="1" i="0" kern="1200" dirty="0">
              <a:latin typeface="Times New Roman" panose="02020603050405020304" pitchFamily="18" charset="0"/>
              <a:cs typeface="Times New Roman" panose="02020603050405020304" pitchFamily="18" charset="0"/>
            </a:rPr>
            <a:t>5-этап</a:t>
          </a:r>
        </a:p>
        <a:p>
          <a:pPr marL="0" lvl="0" indent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600" b="1" i="0" kern="1200" dirty="0">
              <a:latin typeface="Times New Roman" panose="02020603050405020304" pitchFamily="18" charset="0"/>
              <a:cs typeface="Times New Roman" panose="02020603050405020304" pitchFamily="18" charset="0"/>
            </a:rPr>
            <a:t>Ориентировка на плоскости в 2-мерном пространстве</a:t>
          </a:r>
        </a:p>
      </dsp:txBody>
      <dsp:txXfrm>
        <a:off x="1137406" y="1031809"/>
        <a:ext cx="1495945" cy="1231838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ierarchy6">
  <dgm:title val=""/>
  <dgm:desc val=""/>
  <dgm:catLst>
    <dgm:cat type="hierarchy" pri="3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4">
          <dgm:prSet phldr="1"/>
        </dgm:pt>
        <dgm:pt modelId="5">
          <dgm:prSet phldr="1"/>
        </dgm:pt>
        <dgm:pt modelId="6">
          <dgm:prSet phldr="1"/>
        </dgm:pt>
      </dgm:ptLst>
      <dgm:cxnLst>
        <dgm:cxn modelId="7" srcId="0" destId="1" srcOrd="0" destOrd="0"/>
        <dgm:cxn modelId="8" srcId="1" destId="2" srcOrd="0" destOrd="0"/>
        <dgm:cxn modelId="9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10" srcId="0" destId="4" srcOrd="1" destOrd="0"/>
        <dgm:cxn modelId="11" srcId="0" destId="5" srcOrd="2" destOrd="0"/>
        <dgm:cxn modelId="12" srcId="0" destId="6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2"/>
        <dgm:pt modelId="3"/>
      </dgm:ptLst>
      <dgm:cxnLst>
        <dgm:cxn modelId="4" srcId="0" destId="1" srcOrd="0" destOrd="0"/>
        <dgm:cxn modelId="13" srcId="1" destId="11" srcOrd="0" destOrd="0"/>
        <dgm:cxn modelId="14" srcId="1" destId="12" srcOrd="1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  <dgm:pt modelId="4"/>
        <dgm:pt modelId="5"/>
        <dgm:pt modelId="6"/>
        <dgm:pt modelId="7"/>
      </dgm:ptLst>
      <dgm:cxnLst>
        <dgm:cxn modelId="8" srcId="0" destId="1" srcOrd="0" destOrd="0"/>
        <dgm:cxn modelId="9" srcId="1" destId="2" srcOrd="0" destOrd="0"/>
        <dgm:cxn modelId="10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  <dgm:cxn modelId="11" srcId="0" destId="4" srcOrd="1" destOrd="0"/>
        <dgm:cxn modelId="12" srcId="0" destId="5" srcOrd="2" destOrd="0"/>
        <dgm:cxn modelId="13" srcId="0" destId="6" srcOrd="3" destOrd="0"/>
        <dgm:cxn modelId="14" srcId="0" destId="7" srcOrd="4" destOrd="0"/>
      </dgm:cxnLst>
      <dgm:bg/>
      <dgm:whole/>
    </dgm:dataModel>
  </dgm:clrData>
  <dgm:layoutNode name="mainComposite">
    <dgm:varLst>
      <dgm:chPref val="1"/>
      <dgm:dir/>
      <dgm:animOne val="branch"/>
      <dgm:animLvl val="lvl"/>
      <dgm:resizeHandles val="exact"/>
    </dgm:varLst>
    <dgm:alg type="composite">
      <dgm:param type="vertAlign" val="mid"/>
      <dgm:param type="horzAlign" val="ctr"/>
    </dgm:alg>
    <dgm:shape xmlns:r="http://schemas.openxmlformats.org/officeDocument/2006/relationships" r:blip="">
      <dgm:adjLst/>
    </dgm:shape>
    <dgm:presOf/>
    <dgm:choose name="Name0">
      <dgm:if name="Name1" axis="ch" ptType="node" func="cnt" op="gte" val="2">
        <dgm:choose name="Name2">
          <dgm:if name="Name3" func="var" arg="dir" op="equ" val="norm">
            <dgm:constrLst>
              <dgm:constr type="l" for="ch" forName="hierFlow" refType="w" fact="0.3"/>
              <dgm:constr type="t" for="ch" forName="hierFlow"/>
              <dgm:constr type="r" for="ch" forName="hierFlow" refType="w" fact="0.98"/>
              <dgm:constr type="b" for="ch" forName="hierFlow" refType="h" fact="0.98"/>
              <dgm:constr type="l" for="ch" forName="bgShapesFlow"/>
              <dgm:constr type="t" for="ch" forName="bgShapesFlow"/>
              <dgm:constr type="r" for="ch" forName="bgShapesFlow" refType="w"/>
              <dgm:constr type="b" for="ch" forName="bgShapesFlow" refType="h"/>
              <dgm:constr type="w" for="des" forName="level1Shape" refType="w"/>
              <dgm:constr type="h" for="des" forName="level1Shape" refType="w" refFor="des" refForName="level1Shape" fact="0.66667"/>
              <dgm:constr type="w" for="des" forName="level2Shape" refType="w" refFor="des" refForName="level1Shape" op="equ"/>
              <dgm:constr type="h" for="des" forName="level2Shape" refType="h" refFor="des" refForName="level1Shape" op="equ"/>
              <dgm:constr type="sp" for="des" refType="h" refFor="des" refForName="level1Shape" op="equ" fact="0.4"/>
              <dgm:constr type="sibSp" for="des" forName="hierChild1" refType="w" refFor="des" refForName="level1Shape" op="equ" fact="0.3"/>
              <dgm:constr type="sibSp" for="des" forName="hierChild2" refType="sibSp" refFor="des" refForName="hierChild1" op="equ"/>
              <dgm:constr type="sibSp" for="des" forName="hierChild3" refType="sibSp" refFor="des" refForName="hierChild1" op="equ"/>
              <dgm:constr type="userA" for="des" refType="h" refFor="des" refForName="level1Shape" op="equ"/>
              <dgm:constr type="userB" for="des" refType="sp" refFor="des" op="equ"/>
              <dgm:constr type="h" for="des" forName="firstBuf" refType="h" refFor="des" refForName="level1Shape" fact="0.1"/>
            </dgm:constrLst>
          </dgm:if>
          <dgm:else name="Name4">
            <dgm:constrLst>
              <dgm:constr type="l" for="ch" forName="hierFlow" refType="w" fact="0.02"/>
              <dgm:constr type="t" for="ch" forName="hierFlow"/>
              <dgm:constr type="r" for="ch" forName="hierFlow" refType="w" fact="0.7"/>
              <dgm:constr type="b" for="ch" forName="hierFlow" refType="h" fact="0.98"/>
              <dgm:constr type="l" for="ch" forName="bgShapesFlow"/>
              <dgm:constr type="t" for="ch" forName="bgShapesFlow"/>
              <dgm:constr type="r" for="ch" forName="bgShapesFlow" refType="w"/>
              <dgm:constr type="b" for="ch" forName="bgShapesFlow" refType="h"/>
              <dgm:constr type="w" for="des" forName="level1Shape" refType="w"/>
              <dgm:constr type="h" for="des" forName="level1Shape" refType="w" refFor="des" refForName="level1Shape" fact="0.66667"/>
              <dgm:constr type="w" for="des" forName="level2Shape" refType="w" refFor="des" refForName="level1Shape" op="equ"/>
              <dgm:constr type="h" for="des" forName="level2Shape" refType="h" refFor="des" refForName="level1Shape" op="equ"/>
              <dgm:constr type="sp" for="des" refType="h" refFor="des" refForName="level1Shape" op="equ" fact="0.4"/>
              <dgm:constr type="sibSp" for="des" forName="hierChild1" refType="w" refFor="des" refForName="level1Shape" op="equ" fact="0.3"/>
              <dgm:constr type="sibSp" for="des" forName="hierChild2" refType="sibSp" refFor="des" refForName="hierChild1" op="equ"/>
              <dgm:constr type="sibSp" for="des" forName="hierChild3" refType="sibSp" refFor="des" refForName="hierChild1" op="equ"/>
              <dgm:constr type="userA" for="des" refType="h" refFor="des" refForName="level1Shape" op="equ"/>
              <dgm:constr type="userB" for="des" refType="sp" refFor="des" op="equ"/>
              <dgm:constr type="h" for="des" forName="firstBuf" refType="h" refFor="des" refForName="level1Shape" fact="0.1"/>
            </dgm:constrLst>
          </dgm:else>
        </dgm:choose>
      </dgm:if>
      <dgm:else name="Name5">
        <dgm:constrLst>
          <dgm:constr type="l" for="ch" forName="hierFlow"/>
          <dgm:constr type="t" for="ch" forName="hierFlow"/>
          <dgm:constr type="r" for="ch" forName="hierFlow" refType="w"/>
          <dgm:constr type="b" for="ch" forName="hierFlow" refType="h"/>
          <dgm:constr type="l" for="ch" forName="bgShapesFlow"/>
          <dgm:constr type="t" for="ch" forName="bgShapesFlow"/>
          <dgm:constr type="r" for="ch" forName="bgShapesFlow" refType="w"/>
          <dgm:constr type="b" for="ch" forName="bgShapesFlow" refType="h"/>
          <dgm:constr type="w" for="des" forName="level1Shape" refType="w"/>
          <dgm:constr type="h" for="des" forName="level1Shape" refType="w" refFor="des" refForName="level1Shape" fact="0.66667"/>
          <dgm:constr type="w" for="des" forName="level2Shape" refType="w" refFor="des" refForName="level1Shape" op="equ"/>
          <dgm:constr type="h" for="des" forName="level2Shape" refType="h" refFor="des" refForName="level1Shape" op="equ"/>
          <dgm:constr type="sp" for="des" refType="h" refFor="des" refForName="level1Shape" op="equ" fact="0.4"/>
          <dgm:constr type="sibSp" for="des" forName="hierChild1" refType="w" refFor="des" refForName="level1Shape" op="equ" fact="0.3"/>
          <dgm:constr type="sibSp" for="des" forName="hierChild2" refType="sibSp" refFor="des" refForName="hierChild1" op="equ"/>
          <dgm:constr type="sibSp" for="des" forName="hierChild3" refType="sibSp" refFor="des" refForName="hierChild1" op="equ"/>
          <dgm:constr type="userA" for="des" refType="h" refFor="des" refForName="level1Shape" op="equ"/>
          <dgm:constr type="userB" for="des" refType="sp" refFor="des" op="equ"/>
          <dgm:constr type="h" for="des" forName="firstBuf" refType="h" refFor="des" refForName="level1Shape" fact="0.1"/>
        </dgm:constrLst>
      </dgm:else>
    </dgm:choose>
    <dgm:ruleLst/>
    <dgm:layoutNode name="hierFlow">
      <dgm:alg type="lin">
        <dgm:param type="linDir" val="fromT"/>
        <dgm:param type="nodeVertAlign" val="t"/>
        <dgm:param type="vertAlign" val="t"/>
        <dgm:param type="nodeHorzAlign" val="ctr"/>
        <dgm:param type="fallback" val="2D"/>
      </dgm:alg>
      <dgm:shape xmlns:r="http://schemas.openxmlformats.org/officeDocument/2006/relationships" r:blip="">
        <dgm:adjLst/>
      </dgm:shape>
      <dgm:presOf/>
      <dgm:constrLst/>
      <dgm:ruleLst/>
      <dgm:choose name="Name6">
        <dgm:if name="Name7" axis="ch" ptType="node" func="cnt" op="gte" val="2">
          <dgm:layoutNode name="firstBuf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if>
        <dgm:else name="Name8"/>
      </dgm:choose>
      <dgm:layoutNode name="hierChild1">
        <dgm:varLst>
          <dgm:chPref val="1"/>
          <dgm:animOne val="branch"/>
          <dgm:animLvl val="lvl"/>
        </dgm:varLst>
        <dgm:choose name="Name9">
          <dgm:if name="Name10" func="var" arg="dir" op="equ" val="norm">
            <dgm:alg type="hierChild">
              <dgm:param type="linDir" val="fromL"/>
              <dgm:param type="vertAlign" val="t"/>
            </dgm:alg>
          </dgm:if>
          <dgm:else name="Name11">
            <dgm:alg type="hierChild">
              <dgm:param type="linDir" val="fromR"/>
              <dgm:param type="vertAlign" val="t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primFontSz" for="des" ptType="node" op="equ"/>
        </dgm:constrLst>
        <dgm:ruleLst/>
        <dgm:forEach name="Name12" axis="ch" cnt="3">
          <dgm:forEach name="Name13" axis="self" ptType="node">
            <dgm:layoutNode name="Name14">
              <dgm:alg type="hierRoot"/>
              <dgm:shape xmlns:r="http://schemas.openxmlformats.org/officeDocument/2006/relationships" r:blip="">
                <dgm:adjLst/>
              </dgm:shape>
              <dgm:presOf/>
              <dgm:constrLst/>
              <dgm:ruleLst/>
              <dgm:layoutNode name="level1Shape" styleLbl="node0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primFontSz" val="65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layoutNode name="hierChild2">
                <dgm:choose name="Name15">
                  <dgm:if name="Name16" func="var" arg="dir" op="equ" val="norm">
                    <dgm:alg type="hierChild">
                      <dgm:param type="linDir" val="fromL"/>
                    </dgm:alg>
                  </dgm:if>
                  <dgm:else name="Name17">
                    <dgm:alg type="hierChild">
                      <dgm:param type="linDir" val="fromR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/>
                <dgm:forEach name="repeat" axis="ch">
                  <dgm:forEach name="Name18" axis="self" ptType="parTrans" cnt="1">
                    <dgm:layoutNode name="Name19">
                      <dgm:alg type="conn">
                        <dgm:param type="dim" val="1D"/>
                        <dgm:param type="endSty" val="noArr"/>
                        <dgm:param type="connRout" val="bend"/>
                        <dgm:param type="begPts" val="bCtr"/>
                        <dgm:param type="endPts" val="tCtr"/>
                      </dgm:alg>
                      <dgm:shape xmlns:r="http://schemas.openxmlformats.org/officeDocument/2006/relationships" type="conn" r:blip="">
                        <dgm:adjLst/>
                      </dgm:shape>
                      <dgm:presOf axis="self"/>
                      <dgm:constrLst>
                        <dgm:constr type="w" val="1"/>
                        <dgm:constr type="h" val="1"/>
                        <dgm:constr type="begPad"/>
                        <dgm:constr type="endPad"/>
                      </dgm:constrLst>
                      <dgm:ruleLst/>
                    </dgm:layoutNode>
                  </dgm:forEach>
                  <dgm:forEach name="Name20" axis="self" ptType="node">
                    <dgm:layoutNode name="Name21">
                      <dgm:alg type="hierRoot"/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/>
                      <dgm:layoutNode name="level2Shape">
                        <dgm:alg type="tx"/>
                        <dgm:shape xmlns:r="http://schemas.openxmlformats.org/officeDocument/2006/relationships" type="roundRect" r:blip="">
                          <dgm:adjLst>
                            <dgm:adj idx="1" val="0.1"/>
                          </dgm:adjLst>
                        </dgm:shape>
                        <dgm:presOf axis="self"/>
                        <dgm:constrLst>
                          <dgm:constr type="primFontSz" val="65"/>
                          <dgm:constr type="tMarg" refType="primFontSz" fact="0.3"/>
                          <dgm:constr type="bMarg" refType="primFontSz" fact="0.3"/>
                          <dgm:constr type="lMarg" refType="primFontSz" fact="0.3"/>
                          <dgm:constr type="rMarg" refType="primFontSz" fact="0.3"/>
                        </dgm:constrLst>
                        <dgm:ruleLst>
                          <dgm:rule type="primFontSz" val="5" fact="NaN" max="NaN"/>
                        </dgm:ruleLst>
                      </dgm:layoutNode>
                      <dgm:layoutNode name="hierChild3">
                        <dgm:choose name="Name22">
                          <dgm:if name="Name23" func="var" arg="dir" op="equ" val="norm">
                            <dgm:alg type="hierChild">
                              <dgm:param type="linDir" val="fromL"/>
                            </dgm:alg>
                          </dgm:if>
                          <dgm:else name="Name24">
                            <dgm:alg type="hierChild">
                              <dgm:param type="linDir" val="fromR"/>
                            </dgm:alg>
                          </dgm:else>
                        </dgm:choose>
                        <dgm:shape xmlns:r="http://schemas.openxmlformats.org/officeDocument/2006/relationships" r:blip="">
                          <dgm:adjLst/>
                        </dgm:shape>
                        <dgm:presOf/>
                        <dgm:constrLst/>
                        <dgm:ruleLst/>
                        <dgm:forEach name="Name25" ref="repeat"/>
                      </dgm:layoutNode>
                    </dgm:layoutNode>
                  </dgm:forEach>
                </dgm:forEach>
              </dgm:layoutNode>
            </dgm:layoutNode>
          </dgm:forEach>
        </dgm:forEach>
      </dgm:layoutNode>
    </dgm:layoutNode>
    <dgm:layoutNode name="bgShapesFlow">
      <dgm:alg type="lin">
        <dgm:param type="linDir" val="fromT"/>
        <dgm:param type="nodeVertAlign" val="t"/>
        <dgm:param type="vertAlign" val="t"/>
        <dgm:param type="nodeHorzAlign" val="ctr"/>
      </dgm:alg>
      <dgm:shape xmlns:r="http://schemas.openxmlformats.org/officeDocument/2006/relationships" r:blip="">
        <dgm:adjLst/>
      </dgm:shape>
      <dgm:presOf/>
      <dgm:constrLst>
        <dgm:constr type="userB"/>
        <dgm:constr type="w" for="ch" forName="rectComp" refType="w"/>
        <dgm:constr type="h" for="ch" forName="rectComp" refType="h"/>
        <dgm:constr type="w" for="des" forName="bgRect" refType="w"/>
        <dgm:constr type="primFontSz" for="des" forName="bgRectTx" op="equ"/>
      </dgm:constrLst>
      <dgm:ruleLst/>
      <dgm:forEach name="Name26" axis="ch" ptType="node" st="2">
        <dgm:layoutNode name="rectComp">
          <dgm:alg type="composite">
            <dgm:param type="vertAlign" val="t"/>
            <dgm:param type="horzAlign" val="ctr"/>
          </dgm:alg>
          <dgm:shape xmlns:r="http://schemas.openxmlformats.org/officeDocument/2006/relationships" r:blip="">
            <dgm:adjLst/>
          </dgm:shape>
          <dgm:presOf/>
          <dgm:choose name="Name27">
            <dgm:if name="Name28" func="var" arg="dir" op="equ" val="norm">
              <dgm:constrLst>
                <dgm:constr type="userA"/>
                <dgm:constr type="l" for="ch" forName="bgRect"/>
                <dgm:constr type="t" for="ch" forName="bgRect"/>
                <dgm:constr type="h" for="ch" forName="bgRect" refType="userA" fact="1.2"/>
                <dgm:constr type="l" for="ch" forName="bgRectTx"/>
                <dgm:constr type="t" for="ch" forName="bgRectTx"/>
                <dgm:constr type="w" for="ch" forName="bgRectTx" refType="w" refFor="ch" refForName="bgRect" fact="0.3"/>
                <dgm:constr type="h" for="ch" forName="bgRectTx" refType="h" refFor="ch" refForName="bgRect" op="equ"/>
              </dgm:constrLst>
            </dgm:if>
            <dgm:else name="Name29">
              <dgm:constrLst>
                <dgm:constr type="userA"/>
                <dgm:constr type="l" for="ch" forName="bgRect"/>
                <dgm:constr type="t" for="ch" forName="bgRect"/>
                <dgm:constr type="h" for="ch" forName="bgRect" refType="userA" fact="1.2"/>
                <dgm:constr type="r" for="ch" forName="bgRectTx" refType="w"/>
                <dgm:constr type="t" for="ch" forName="bgRectTx"/>
                <dgm:constr type="w" for="ch" forName="bgRectTx" refType="w" refFor="ch" refForName="bgRect" fact="0.3"/>
                <dgm:constr type="h" for="ch" forName="bgRectTx" refType="h" refFor="ch" refForName="bgRect" op="equ"/>
              </dgm:constrLst>
            </dgm:else>
          </dgm:choose>
          <dgm:ruleLst/>
          <dgm:layoutNode name="bgRect" styleLbl="bgShp">
            <dgm:alg type="sp"/>
            <dgm:shape xmlns:r="http://schemas.openxmlformats.org/officeDocument/2006/relationships" type="roundRect" r:blip="" zOrderOff="-999">
              <dgm:adjLst>
                <dgm:adj idx="1" val="0.1"/>
              </dgm:adjLst>
            </dgm:shape>
            <dgm:presOf axis="desOrSelf" ptType="node"/>
            <dgm:constrLst/>
            <dgm:ruleLst/>
          </dgm:layoutNode>
          <dgm:layoutNode name="bgRectTx" styleLbl="bgShp">
            <dgm:varLst>
              <dgm:bulletEnabled val="1"/>
            </dgm:varLst>
            <dgm:alg type="tx"/>
            <dgm:presOf axis="desOrSelf" ptType="node"/>
            <dgm:shape xmlns:r="http://schemas.openxmlformats.org/officeDocument/2006/relationships" type="rect" r:blip="" zOrderOff="-999" hideGeom="1">
              <dgm:adjLst/>
            </dgm:shape>
            <dgm:constrLst>
              <dgm:constr type="primFontSz" val="65"/>
            </dgm:constrLst>
            <dgm:ruleLst>
              <dgm:rule type="primFontSz" val="5" fact="NaN" max="NaN"/>
            </dgm:ruleLst>
          </dgm:layoutNode>
        </dgm:layoutNode>
        <dgm:choose name="Name30">
          <dgm:if name="Name31" axis="self" ptType="node" func="revPos" op="gte" val="2">
            <dgm:layoutNode name="spComp">
              <dgm:alg type="composite">
                <dgm:param type="vertAlign" val="t"/>
                <dgm:param type="horzAlign" val="ctr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userA"/>
                <dgm:constr type="userB"/>
                <dgm:constr type="l" for="ch" forName="vSp"/>
                <dgm:constr type="t" for="ch" forName="vSp"/>
                <dgm:constr type="h" for="ch" forName="vSp" refType="userB"/>
                <dgm:constr type="hOff" for="ch" forName="vSp" refType="userA" fact="-0.2"/>
              </dgm:constrLst>
              <dgm:ruleLst/>
              <dgm:layoutNode name="vSp">
                <dgm:alg type="sp"/>
                <dgm:shape xmlns:r="http://schemas.openxmlformats.org/officeDocument/2006/relationships" r:blip="">
                  <dgm:adjLst/>
                </dgm:shape>
                <dgm:presOf/>
                <dgm:constrLst/>
                <dgm:ruleLst/>
              </dgm:layoutNode>
            </dgm:layoutNode>
          </dgm:if>
          <dgm:else name="Name32"/>
        </dgm:choose>
      </dgm:forEach>
    </dgm:layoutNode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radial1">
  <dgm:title val=""/>
  <dgm:desc val=""/>
  <dgm:catLst>
    <dgm:cat type="relationship" pri="22000"/>
    <dgm:cat type="cycle" pri="1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  <dgm:pt modelId="14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  <dgm:cxn modelId="6" srcId="1" destId="14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13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cycle">
    <dgm:varLst>
      <dgm:chMax val="1"/>
      <dgm:dir/>
      <dgm:animLvl val="ctr"/>
      <dgm:resizeHandles val="exact"/>
    </dgm:varLst>
    <dgm:choose name="Name0">
      <dgm:if name="Name1" func="var" arg="dir" op="equ" val="norm">
        <dgm:choose name="Name2">
          <dgm:if name="Name3" axis="ch ch" ptType="node node" st="1 1" cnt="1 0" func="cnt" op="lte" val="1">
            <dgm:alg type="cycle">
              <dgm:param type="stAng" val="90"/>
              <dgm:param type="spanAng" val="360"/>
              <dgm:param type="ctrShpMap" val="fNode"/>
            </dgm:alg>
          </dgm:if>
          <dgm:else name="Name4">
            <dgm:alg type="cycle">
              <dgm:param type="stAng" val="0"/>
              <dgm:param type="spanAng" val="360"/>
              <dgm:param type="ctrShpMap" val="fNode"/>
            </dgm:alg>
          </dgm:else>
        </dgm:choose>
      </dgm:if>
      <dgm:else name="Name5">
        <dgm:alg type="cycle">
          <dgm:param type="stAng" val="0"/>
          <dgm:param type="spanAng" val="-360"/>
          <dgm:param type="ctrShpMap" val="fNode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enterShape" refType="w"/>
      <dgm:constr type="w" for="ch" forName="node" refType="w" refFor="ch" refForName="centerShape" op="equ"/>
      <dgm:constr type="sp" refType="w" refFor="ch" refForName="node" fact="0.3"/>
      <dgm:constr type="sibSp" refType="w" refFor="ch" refForName="node" fact="0.3"/>
      <dgm:constr type="primFontSz" for="ch" forName="centerShape" val="65"/>
      <dgm:constr type="primFontSz" for="des" forName="node" op="equ" val="65"/>
      <dgm:constr type="primFontSz" for="des" forName="connTx" val="55"/>
      <dgm:constr type="primFontSz" for="des" forName="connTx" refType="primFontSz" refFor="ch" refForName="centerShape" op="lte" fact="0.8"/>
    </dgm:constrLst>
    <dgm:ruleLst/>
    <dgm:forEach name="Name6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h" refType="w"/>
          <dgm:constr type="tMarg" refType="primFontSz" fact="0.05"/>
          <dgm:constr type="bMarg" refType="primFontSz" fact="0.05"/>
          <dgm:constr type="lMarg" refType="primFontSz" fact="0.05"/>
          <dgm:constr type="rMarg" refType="primFontSz" fact="0.05"/>
        </dgm:constrLst>
        <dgm:ruleLst>
          <dgm:rule type="primFontSz" val="5" fact="NaN" max="NaN"/>
        </dgm:ruleLst>
      </dgm:layoutNode>
      <dgm:forEach name="Name7" axis="ch">
        <dgm:forEach name="Name8" axis="self" ptType="parTrans">
          <dgm:layoutNode name="Name9">
            <dgm:alg type="conn">
              <dgm:param type="dim" val="1D"/>
              <dgm:param type="begPts" val="auto"/>
              <dgm:param type="endPts" val="auto"/>
              <dgm:param type="begSty" val="noArr"/>
              <dgm:param type="endSty" val="noArr"/>
            </dgm:alg>
            <dgm:shape xmlns:r="http://schemas.openxmlformats.org/officeDocument/2006/relationships" type="conn" r:blip="">
              <dgm:adjLst/>
            </dgm:shape>
            <dgm:presOf axis="self"/>
            <dgm:constrLst>
              <dgm:constr type="connDist"/>
              <dgm:constr type="userA" for="ch" refType="connDist"/>
              <dgm:constr type="w" val="1"/>
              <dgm:constr type="h" val="5"/>
              <dgm:constr type="begPad"/>
              <dgm:constr type="endPad"/>
            </dgm:constrLst>
            <dgm:ruleLst/>
            <dgm:layoutNode name="connTx">
              <dgm:alg type="tx">
                <dgm:param type="autoTxRot" val="grav"/>
              </dgm:alg>
              <dgm:shape xmlns:r="http://schemas.openxmlformats.org/officeDocument/2006/relationships" type="rect" r:blip="" hideGeom="1">
                <dgm:adjLst/>
              </dgm:shape>
              <dgm:presOf axis="self"/>
              <dgm:constrLst>
                <dgm:constr type="userA"/>
                <dgm:constr type="w" refType="userA" fact="0.05"/>
                <dgm:constr type="h" refType="userA" fact="0.05"/>
                <dgm:constr type="lMarg" val="1"/>
                <dgm:constr type="rMarg" val="1"/>
                <dgm:constr type="tMarg"/>
                <dgm:constr type="bMarg"/>
              </dgm:constrLst>
              <dgm:ruleLst>
                <dgm:rule type="w" val="NaN" fact="0.8" max="NaN"/>
                <dgm:rule type="h" val="NaN" fact="1" max="NaN"/>
                <dgm:rule type="primFontSz" val="5" fact="NaN" max="NaN"/>
              </dgm:ruleLst>
            </dgm:layoutNode>
          </dgm:layoutNode>
        </dgm:forEach>
        <dgm:forEach name="Name10" axis="self" ptType="node">
          <dgm:layoutNode name="node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presOf axis="desOrSelf" ptType="node"/>
            <dgm:constrLst>
              <dgm:constr type="h" refType="w"/>
              <dgm:constr type="tMarg" refType="primFontSz" fact="0.05"/>
              <dgm:constr type="bMarg" refType="primFontSz" fact="0.05"/>
              <dgm:constr type="lMarg" refType="primFontSz" fact="0.05"/>
              <dgm:constr type="rMarg" refType="primFontSz" fact="0.05"/>
            </dgm:constrLst>
            <dgm:ruleLst>
              <dgm:rule type="primFontSz" val="5" fact="NaN" max="NaN"/>
            </dgm:ruleLst>
          </dgm:layoutNode>
        </dgm:forEach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3d2#1">
  <dgm:title val=""/>
  <dgm:desc val=""/>
  <dgm:catLst>
    <dgm:cat type="3D" pri="11200"/>
  </dgm:catLst>
  <dgm:scene3d>
    <a:camera prst="orthographicFront"/>
    <a:lightRig rig="threePt" dir="t"/>
  </dgm:scene3d>
  <dgm:styleLbl name="node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ng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>
        <a:rot lat="0" lon="0" rev="7500000"/>
      </a:lightRig>
    </dgm:scene3d>
    <dgm:sp3d z="2540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>
        <a:rot lat="0" lon="0" rev="7500000"/>
      </a:lightRig>
    </dgm:scene3d>
    <dgm:sp3d z="-152400" extrusionH="63500" contourW="1270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>
        <a:rot lat="0" lon="0" rev="7500000"/>
      </a:lightRig>
    </dgm:scene3d>
    <dgm:sp3d z="-700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>
        <a:rot lat="0" lon="0" rev="7500000"/>
      </a:lightRig>
    </dgm:scene3d>
    <dgm:sp3d z="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>
        <a:rot lat="0" lon="0" rev="7500000"/>
      </a:lightRig>
    </dgm:scene3d>
    <dgm:sp3d z="-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>
        <a:rot lat="0" lon="0" rev="7500000"/>
      </a:lightRig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>
        <a:rot lat="0" lon="0" rev="7500000"/>
      </a:lightRig>
    </dgm:scene3d>
    <dgm:sp3d extrusionH="190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>
        <a:rot lat="0" lon="0" rev="7500000"/>
      </a:lightRig>
    </dgm:scene3d>
    <dgm:sp3d prstMaterial="plastic">
      <a:bevelT w="127000" h="3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2445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0800" h="190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bevelB w="120650" h="571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>
        <a:rot lat="0" lon="0" rev="7500000"/>
      </a:lightRig>
    </dgm:scene3d>
    <dgm:sp3d z="-152400" extrusionH="63500" prstMaterial="matte">
      <a:bevelT w="144450" h="6350" prst="relaxedInset"/>
      <a:contourClr>
        <a:schemeClr val="bg1"/>
      </a:contourClr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  <a:bevelB w="88900" h="121750" prst="angle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1524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B39-E649-4889-B214-7CF1A758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6F7-A18B-4F4B-8E09-8FFDABE4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846-4578-468B-B8BA-5388C29A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837-DEEC-40F3-B82A-764DC082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B101-E2AE-42E8-A370-45DEE911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763D-B3D6-49EA-A648-1AB58933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E4FA-ED2C-4423-8C77-2C220ACA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EBAE-D63A-4299-9F54-EA2CFE80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02BE-DB81-41E1-BFC8-6D865E91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2A9D-94A1-40B2-A8D9-C9A9A67B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16D3-6EBC-4A4B-A239-E06B3D6E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2A2-644E-4AFB-BC6D-BAE45FF1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A7A4-C912-45D8-9EFD-FDC56DCC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58EF-1742-44B6-A9DD-20CC89A1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F6FC-6E21-48EC-80BE-1B1E85FB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F57D-E446-41FB-80BB-69E7F829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0069-7278-41D1-8A04-BB4F2671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E0D5D-1D95-47E2-A815-DBA8AAF9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96505-7F38-41CF-B89A-5F69541C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1C4A4-91D0-40C7-AB2B-F764D2B2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0E0BD-9182-4307-A029-2813E286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0AD7B-3B78-4D88-ABA2-3DFBE45A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AC2-E24B-423D-BD12-8C80A186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28261-A917-4AB3-AF32-56A9681D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A2949-5080-4DD6-B677-642F2E81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10446-CB4D-43C2-952C-9F99CA7F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5F89C-3E81-4F41-8C56-7776B179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C4404-0506-4C73-BCB9-5C1AD3E8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F9C40-DB26-4B66-8687-C84EF270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0F680-D428-4066-8D92-EFABE074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03A94-4558-45E2-9D06-47AAEF0C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FCDAF-8EF3-45C1-903C-E8AC82AA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6370A-C28E-4F73-8187-20D68845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0ED-EB61-4BAD-A4F7-E4D2F94C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B8DCD-7178-4D18-B13F-5E009C93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E1AFB-5E44-4543-851A-DEB6F1FF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21C9A-2B97-4D0A-B44C-86FE71F3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C634D-0EEC-4C27-92F9-497EFA08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43E55-495D-4B13-AD04-C3E0A9B4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F1183-FF18-4508-BF80-BD05A3D4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5FC26-4E52-4134-A60B-1A50AB9B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0AAD7-6F7C-4FB2-ABAC-EC108A69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AC05A-391A-40FC-B9CA-4E5768AF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F53-A715-4CE5-8A80-EF7E49DF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3BF-BD9B-48AC-8192-56B8EE38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31E-A974-40B0-839B-DCD04DE8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D8F-3083-45F8-A167-A5502B10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24E-B47D-4012-8AFB-E8DABE56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6">
            <a:lumMod val="40000"/>
            <a:lumOff val="6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D3C9C7-2188-44B1-8CA6-F7470B54DD4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6">
            <a:lumMod val="40000"/>
            <a:lumOff val="6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7B0977-CAED-41D2-8BBE-D3928BDED15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6">
            <a:lumMod val="40000"/>
            <a:lumOff val="6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A31F9B-59CF-4EEB-A742-5B259BAD53A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6">
            <a:lumMod val="40000"/>
            <a:lumOff val="6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1DF5DF-E846-4A38-988C-D7E27E18C1D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7640" y="404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 </a:t>
            </a:r>
            <a:br>
              <a:rPr sz="48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азвитие ориентировки в пространстве  дошкольников с ОВЗ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084000" y="3285000"/>
            <a:ext cx="2664000" cy="27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дготовила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читель-логопед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БОУ СОШ №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школьное отделениед/с № 2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г. о. Балаших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ельникова С.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3" descr=""/>
          <p:cNvPicPr/>
          <p:nvPr/>
        </p:nvPicPr>
        <p:blipFill>
          <a:blip r:embed="rId1"/>
          <a:stretch/>
        </p:blipFill>
        <p:spPr>
          <a:xfrm rot="20816400">
            <a:off x="810720" y="3402000"/>
            <a:ext cx="4811040" cy="29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24640"/>
            <a:ext cx="8229240" cy="29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риентировка на плоскости в 2-мерном пространстве</a:t>
            </a: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-ый этап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2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Назови соседей» (на плоскости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Ориентировка по схеме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Графический диктант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Рисунок 6" descr=""/>
          <p:cNvPicPr/>
          <p:nvPr/>
        </p:nvPicPr>
        <p:blipFill>
          <a:blip r:embed="rId1"/>
          <a:stretch/>
        </p:blipFill>
        <p:spPr>
          <a:xfrm>
            <a:off x="5766120" y="2542680"/>
            <a:ext cx="2330280" cy="395388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4" descr=""/>
          <p:cNvPicPr/>
          <p:nvPr/>
        </p:nvPicPr>
        <p:blipFill>
          <a:blip r:embed="rId2"/>
          <a:stretch/>
        </p:blipFill>
        <p:spPr>
          <a:xfrm>
            <a:off x="457200" y="3789000"/>
            <a:ext cx="4899600" cy="270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2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бота с детьми по рисованию и раскрашиванию направленная на формированию навыков пространственного ориентирован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68000" y="2133000"/>
            <a:ext cx="194400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733680" y="1598760"/>
            <a:ext cx="3539160" cy="4906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5140440" y="1598760"/>
            <a:ext cx="3399480" cy="49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92640"/>
            <a:ext cx="822924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составления рассказов, заучивания стихов, использую мнемотехнику, где некоторые части речи обозначаются геометрическими фигура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Объект 4" descr=""/>
          <p:cNvPicPr/>
          <p:nvPr/>
        </p:nvPicPr>
        <p:blipFill>
          <a:blip r:embed="rId1"/>
          <a:stretch/>
        </p:blipFill>
        <p:spPr>
          <a:xfrm>
            <a:off x="457200" y="2493000"/>
            <a:ext cx="4181760" cy="32832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5" descr=""/>
          <p:cNvPicPr/>
          <p:nvPr/>
        </p:nvPicPr>
        <p:blipFill>
          <a:blip r:embed="rId2"/>
          <a:stretch/>
        </p:blipFill>
        <p:spPr>
          <a:xfrm>
            <a:off x="5076000" y="2508480"/>
            <a:ext cx="3164760" cy="39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443960"/>
            <a:ext cx="822924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едующим этапом работы  является составление мнемотаблицы детьми.         Дошкольникам предлагается чистый лист с  окошками и они самостоятельно по показу или устной инструкции педагога заполняют таблицу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2286000" y="1443960"/>
            <a:ext cx="45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Объект 4" descr=""/>
          <p:cNvPicPr/>
          <p:nvPr/>
        </p:nvPicPr>
        <p:blipFill>
          <a:blip r:embed="rId1"/>
          <a:stretch/>
        </p:blipFill>
        <p:spPr>
          <a:xfrm>
            <a:off x="270000" y="3448800"/>
            <a:ext cx="4032000" cy="18324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6" descr=""/>
          <p:cNvPicPr/>
          <p:nvPr/>
        </p:nvPicPr>
        <p:blipFill>
          <a:blip r:embed="rId2"/>
          <a:stretch/>
        </p:blipFill>
        <p:spPr>
          <a:xfrm>
            <a:off x="4572000" y="3310560"/>
            <a:ext cx="4032000" cy="19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7"/>
          <p:cNvSpPr/>
          <p:nvPr/>
        </p:nvSpPr>
        <p:spPr>
          <a:xfrm>
            <a:off x="1366920" y="370440"/>
            <a:ext cx="45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"/>
          <p:cNvSpPr/>
          <p:nvPr/>
        </p:nvSpPr>
        <p:spPr>
          <a:xfrm>
            <a:off x="209520" y="640800"/>
            <a:ext cx="86104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ля закрепления правильного употребления предлогов в самостоятельной речи предлагаются следующие дидактические  игры и упраж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Объект 4" descr=""/>
          <p:cNvPicPr/>
          <p:nvPr/>
        </p:nvPicPr>
        <p:blipFill>
          <a:blip r:embed="rId1"/>
          <a:stretch/>
        </p:blipFill>
        <p:spPr>
          <a:xfrm>
            <a:off x="181800" y="3169080"/>
            <a:ext cx="4636800" cy="31302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0" descr=""/>
          <p:cNvPicPr/>
          <p:nvPr/>
        </p:nvPicPr>
        <p:blipFill>
          <a:blip r:embed="rId2"/>
          <a:stretch/>
        </p:blipFill>
        <p:spPr>
          <a:xfrm>
            <a:off x="4849560" y="3169080"/>
            <a:ext cx="4145760" cy="31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пользование компьютерных игр в работе по пространственному ориентированию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457200" y="1700640"/>
            <a:ext cx="2223720" cy="2212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2"/>
          <a:stretch/>
        </p:blipFill>
        <p:spPr>
          <a:xfrm>
            <a:off x="3132000" y="4672800"/>
            <a:ext cx="2457000" cy="1964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3"/>
          <a:stretch/>
        </p:blipFill>
        <p:spPr>
          <a:xfrm>
            <a:off x="373680" y="4802760"/>
            <a:ext cx="2447640" cy="1834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"/>
          <p:cNvPicPr/>
          <p:nvPr/>
        </p:nvPicPr>
        <p:blipFill>
          <a:blip r:embed="rId4"/>
          <a:stretch/>
        </p:blipFill>
        <p:spPr>
          <a:xfrm>
            <a:off x="6183720" y="4320000"/>
            <a:ext cx="2400120" cy="2400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5"/>
          <a:stretch/>
        </p:blipFill>
        <p:spPr>
          <a:xfrm>
            <a:off x="2962080" y="1423800"/>
            <a:ext cx="3116520" cy="3116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6"/>
          <a:stretch/>
        </p:blipFill>
        <p:spPr>
          <a:xfrm>
            <a:off x="6145200" y="1571760"/>
            <a:ext cx="2998440" cy="21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1.96623E-007 L -0.00799 0.40921 E">
                                      <p:cBhvr>
                                        <p:cTn id="9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96623E-007 L 0.33073 -1.96623E-007 E">
                                      <p:cBhvr>
                                        <p:cTn id="9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-4.45293E-006 L -0.31494 -0.02105 E">
                                      <p:cBhvr>
                                        <p:cTn id="9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4.45293E-006 L -0.29914 0.3988 E">
                                      <p:cBhvr>
                                        <p:cTn id="10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4.45293E-006 L 0.31511 0.41985 E">
                                      <p:cBhvr>
                                        <p:cTn id="10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539640" y="188640"/>
            <a:ext cx="8136720" cy="52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и решении задач каждого этапа совершенствуются умения передвигаться в указанном направлении. В процессе обучения необходимо обращать внимание на освоение детьми значения предлогов и наречий, отражающих пространственные отно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     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Эти игры способствуют расширению, уточнению и систематизации полученных знаний, что позволит детям овладеть пространственной ориентировкой  не только на игровом материале, но и в реальной  окружающей обстанов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900igr.net/datas/doshkolnoe-obrazovanie/Nravstvenno-patrioticheskoe-vospitanie-doshkolnikov/0015-015-Spasibo-za-vnimani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09963302"/>
              </p:ext>
            </p:extLst>
          </p:nvPr>
        </p:nvGraphicFramePr>
        <p:xfrm>
          <a:off x="357120" y="214200"/>
          <a:ext cx="8500680" cy="635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46442369"/>
              </p:ext>
            </p:extLst>
          </p:nvPr>
        </p:nvGraphicFramePr>
        <p:xfrm>
          <a:off x="0" y="0"/>
          <a:ext cx="914364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420803636"/>
              </p:ext>
            </p:extLst>
          </p:nvPr>
        </p:nvGraphicFramePr>
        <p:xfrm>
          <a:off x="457200" y="428760"/>
          <a:ext cx="8229240" cy="6143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0360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апы работы, соответствующие принципу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от простого к сложному» в содержании дидактических игр и упражнени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2893271123"/>
              </p:ext>
            </p:extLst>
          </p:nvPr>
        </p:nvGraphicFramePr>
        <p:xfrm>
          <a:off x="0" y="1500120"/>
          <a:ext cx="9143640" cy="5357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3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-ый этап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Что справа от тебя?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Где стоит игрушка?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оставь, где я скажу…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Холодно – горячо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Сделай, как у меня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Колокольчик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Скажи наоборот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Звук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4"/>
          <p:cNvSpPr/>
          <p:nvPr/>
        </p:nvSpPr>
        <p:spPr>
          <a:xfrm>
            <a:off x="2195640" y="274680"/>
            <a:ext cx="6264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очка отсчета «от себ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Объект 8" descr=""/>
          <p:cNvPicPr/>
          <p:nvPr/>
        </p:nvPicPr>
        <p:blipFill>
          <a:blip r:embed="rId1"/>
          <a:stretch/>
        </p:blipFill>
        <p:spPr>
          <a:xfrm rot="1107000">
            <a:off x="5232600" y="1465920"/>
            <a:ext cx="3231000" cy="242316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2"/>
          <a:stretch/>
        </p:blipFill>
        <p:spPr>
          <a:xfrm>
            <a:off x="4356000" y="3480840"/>
            <a:ext cx="229644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692640"/>
            <a:ext cx="8229240" cy="72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очка отсчета «от предмета»</a:t>
            </a: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-ой этап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гадай, где ?» (по заданному условию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Где я сяду?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Давай меняться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Рисунок 3" descr=""/>
          <p:cNvPicPr/>
          <p:nvPr/>
        </p:nvPicPr>
        <p:blipFill>
          <a:blip r:embed="rId1"/>
          <a:stretch/>
        </p:blipFill>
        <p:spPr>
          <a:xfrm>
            <a:off x="1595880" y="3287880"/>
            <a:ext cx="2265480" cy="30207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4" descr=""/>
          <p:cNvPicPr/>
          <p:nvPr/>
        </p:nvPicPr>
        <p:blipFill>
          <a:blip r:embed="rId2"/>
          <a:stretch/>
        </p:blipFill>
        <p:spPr>
          <a:xfrm>
            <a:off x="5004000" y="2183040"/>
            <a:ext cx="2957040" cy="39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831960"/>
            <a:ext cx="8229240" cy="58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6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Определять словом положение предмета</a:t>
            </a: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-ий этап</a:t>
            </a: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Определять словом, что изменилось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Новоселье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Найди магнит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Магазин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Рисунок 5" descr=""/>
          <p:cNvPicPr/>
          <p:nvPr/>
        </p:nvPicPr>
        <p:blipFill>
          <a:blip r:embed="rId1"/>
          <a:stretch/>
        </p:blipFill>
        <p:spPr>
          <a:xfrm>
            <a:off x="810720" y="3748320"/>
            <a:ext cx="3707640" cy="27806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3" descr=""/>
          <p:cNvPicPr/>
          <p:nvPr/>
        </p:nvPicPr>
        <p:blipFill>
          <a:blip r:embed="rId2"/>
          <a:stretch/>
        </p:blipFill>
        <p:spPr>
          <a:xfrm>
            <a:off x="5076000" y="2421000"/>
            <a:ext cx="30574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риентироваться в 3-мерном пространстве, в движении</a:t>
            </a: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-ый  этап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36880"/>
            <a:ext cx="8229240" cy="40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Куда пойдешь, то и найдешь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Синхронное плавание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Содержимое 4" descr=""/>
          <p:cNvPicPr/>
          <p:nvPr/>
        </p:nvPicPr>
        <p:blipFill>
          <a:blip r:embed="rId1"/>
          <a:stretch/>
        </p:blipFill>
        <p:spPr>
          <a:xfrm>
            <a:off x="572040" y="3143160"/>
            <a:ext cx="3970440" cy="29246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5" descr=""/>
          <p:cNvPicPr/>
          <p:nvPr/>
        </p:nvPicPr>
        <p:blipFill>
          <a:blip r:embed="rId2"/>
          <a:stretch/>
        </p:blipFill>
        <p:spPr>
          <a:xfrm>
            <a:off x="4860000" y="3093840"/>
            <a:ext cx="4000320" cy="29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  <Words>510</Words>
  <Paragraphs>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ладимир Шахов</dc:creator>
  <dc:description/>
  <dc:language>en-US</dc:language>
  <cp:lastModifiedBy>Светлана Мельникова</cp:lastModifiedBy>
  <dcterms:modified xsi:type="dcterms:W3CDTF">2022-03-14T10:12:28Z</dcterms:modified>
  <cp:revision>107</cp:revision>
  <dc:subject/>
  <dc:title>Этапы обучения детей ориентировке в пространств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